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06E7555-5ECC-4A24-ADD8-320A71871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3C5D2B5-1156-4C40-ADD9-71A3507206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ed data, initially state 0.  Users update, bring to states 1 and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log update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 multi-log, replay from initial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combination, ordering, may succeed or fail (confli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: honour user intents, don’t f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99E653D-CEFF-4545-81E4-CF61454F38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000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726080"/>
            <a:ext cx="4951440" cy="1727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der some action 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 precondition on initial value (otherwise abort comput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e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ify postcondition relating last value to next value (otherwise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tall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concurrent action g may be incorrect because the last value is not the initial value, postcondition violated.  Special c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ependence: g’s precondition independent from f’s postcondition and vice-ver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ependence: g’s read set and write sets disjoint from f’s write set [and vice-versa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ution: abort concurrent g, replay sequentially.  However this might not work because now the precondition is violated. This is a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-befor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causal ordering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conservative approximation of caus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ncurrent actions are not causally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ependent actions may be causally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it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it causal dependence, more precise than syntactic approx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 than the syntactic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causal dependency,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: also express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 later, same primitives express confli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 than the syntactic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causal dependency,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: also express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 later, same primitives express conflicts between 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intent constraint connects two particular actions in a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 constraints characterise user i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 constraint is a static constraint i.e. evaluated without reference to the shared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mantic constraint connects two method calls, across all possible 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es semantics of shared object: method of shared object, written by object progra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constraint = Bayou dependency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many dependency checks can be made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5E4CBC6-517D-45D1-81EE-C8EACD3A50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ed data, initially state 0.  Users update, bring to states 1 and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log update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nci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l back to state 0, combine updates, final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 all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s differ in set, order of actions; bu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ivalence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it “best”.  More precisely: equivalence class of best schedules yielding identical final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binations fail (violate invari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concept: expose invariants to sys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ual split of “invariants” into “static constraints” and “dynami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ise: ignore temporal dependency/independence, only consider true depend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422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 constrai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422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ise: generate schedules that verify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t scheduling and exec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running all schedules in parallel choose one (or a small number) &amp; ru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dynamic constraint during execution; if fails, roll back and try a different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exhaustive search, use heu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7085B88-78FE-4648-A38C-7F3E79D643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153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rt justifies our intuition that search is superior to any syntactic (i.e. predefined) order, e.g. timestamp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application (calendar) – later I will present the details of the experiments – now just note that syntactic ordering (in these experiments) is not able to schedule about 13% of the actions.  Instead our search algorithm is able to schedule almost all possible actions – even on inputs of non-trivial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ynthetic benchmark data with alternatives but no true conflicts; optimal = all actio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Single Log” line represents throwing away every action in one log and keeping the other, i.e.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o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licy.  So think of the Single Log (purple) as your base line.  The “Concatenate” line (green) is representative of any syntactic algorithm.  It is about 78% of the way between Single Log and Optimal, i.e. it is 22% worse than Optimal. The IceCube search (red crosses) is indistinguishable from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searching all possible schedules is im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= honouring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valence: two sound schedules with the same actions are equivalent – even if the actions are ordered differ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big improvement! comparing two schedules is a lot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chedules are sound, they are ordered consistently wi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; actions that are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ust be in same order in both schedules; those that are not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ute so the order doesn’t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is related to log constra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esence of log constraints, soundness makes the convergence problem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 well for file systems (no log constrai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s soun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itted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= honouring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valence: two sound schedules with the same actions are equivalent – even if the actions are ordered differ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big improvement! comparing two schedules is a lot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chedules are sound, they are ordered consistently wi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; actions that are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ust be in same order in both schedules; those that are not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ute so the order doesn’t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jointness is what makes convergence h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ists even when there are no log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objects == no log constraints; soundness is triv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08EAA8E-DF5B-420F-8206-6A66EB6797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000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726080"/>
            <a:ext cx="495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46B-6D12-4239-966D-5F0FF548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E1A-BBE1-4FC2-9B98-9ED36629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C95-1FF9-48DA-A840-11D9EE67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5128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45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83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5128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45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55E-A01E-4A39-B971-BBAAD674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75BA-4611-4302-826A-FD6A388D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A55D-5E56-47F5-83A7-C4FF9B6C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93FF-DBDF-4914-99AC-66BA2E7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69F0-0B91-430A-8356-BA47C56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EB54-9F79-418A-BD44-53695C35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8360" y="279000"/>
            <a:ext cx="734400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3D63-8AC3-48B6-906F-168A9095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8F71-EA70-45C0-9DB4-68BB624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65A-0580-46E0-A683-408B6836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13F9-ED65-4EBD-9516-A40FC572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F56C-3C8D-4FA3-8189-EF5764B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AAB1-3296-481A-8DAE-8428AA1D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E376-724B-46E0-ADAF-2DADDC9F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5128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345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83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5128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345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DD95-A441-4DCB-81B2-7E59887C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E18-3630-4BE6-A713-5750E0C5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033-8A64-4C7C-966A-5EBD2F9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D0E-FBB9-46C5-8F9A-C38B8ECB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8360" y="279000"/>
            <a:ext cx="734400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9FF-3C7F-4AF4-9A31-4FA6D0EB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03D-0C12-4471-B387-1611F24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ADB-6F78-4862-A5D7-B0174C11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767-BEFC-40DD-B277-12CE584B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2a55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2a55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68000" y="6453360"/>
            <a:ext cx="271476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a19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05440" y="6459120"/>
            <a:ext cx="3992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a19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0840" y="6453360"/>
            <a:ext cx="55116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13F0-C7AA-425A-A5FA-2DED81AC6EE6}" type="slidenum">
              <a:rPr b="0" lang="en-US" sz="1000" spc="-1" strike="noStrike">
                <a:solidFill>
                  <a:srgbClr val="4fa19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187280" y="439200"/>
            <a:ext cx="0" cy="879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838080"/>
            <a:ext cx="174600" cy="198720"/>
          </a:xfrm>
          <a:prstGeom prst="ellipse">
            <a:avLst/>
          </a:prstGeom>
          <a:solidFill>
            <a:srgbClr val="2a5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3800" y="838080"/>
            <a:ext cx="174600" cy="198720"/>
          </a:xfrm>
          <a:prstGeom prst="ellipse">
            <a:avLst/>
          </a:prstGeom>
          <a:solidFill>
            <a:srgbClr val="4fa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68320" y="838080"/>
            <a:ext cx="174600" cy="198720"/>
          </a:xfrm>
          <a:prstGeom prst="ellipse">
            <a:avLst/>
          </a:prstGeom>
          <a:solidFill>
            <a:srgbClr val="5f97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975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975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388-C646-427A-83F7-BBECBEDB40F4}" type="slidenum">
              <a:rPr b="0" lang="en-US" sz="1000" spc="-1" strike="noStrike">
                <a:solidFill>
                  <a:srgbClr val="5f97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1631880"/>
            <a:ext cx="347760" cy="347760"/>
          </a:xfrm>
          <a:prstGeom prst="ellipse">
            <a:avLst/>
          </a:prstGeom>
          <a:solidFill>
            <a:srgbClr val="2a5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1633680"/>
            <a:ext cx="349200" cy="347400"/>
          </a:xfrm>
          <a:prstGeom prst="ellipse">
            <a:avLst/>
          </a:prstGeom>
          <a:solidFill>
            <a:srgbClr val="4fa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1633680"/>
            <a:ext cx="347760" cy="347400"/>
          </a:xfrm>
          <a:prstGeom prst="ellipse">
            <a:avLst/>
          </a:prstGeom>
          <a:solidFill>
            <a:srgbClr val="5f97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3" marL="1371600" algn="ctr">
              <a:lnSpc>
                <a:spcPct val="70000"/>
              </a:lnSpc>
              <a:spcBef>
                <a:spcPts val="601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4" marL="1828800" algn="ctr">
              <a:lnSpc>
                <a:spcPct val="70000"/>
              </a:lnSpc>
              <a:spcBef>
                <a:spcPts val="601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2a55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2a55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60280"/>
            <a:ext cx="65419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08080"/>
                </a:solidFill>
                <a:latin typeface="Arial"/>
              </a:rPr>
              <a:t>Partage d’information à grande échelle</a:t>
            </a:r>
            <a:endParaRPr b="0" lang="en-US" sz="6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58560" y="4597200"/>
            <a:ext cx="698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icrosoft Sans Serif"/>
              </a:rPr>
              <a:t>Marc Shapiro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5373720"/>
            <a:ext cx="334836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11640" y="69228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6119640"/>
            <a:ext cx="698508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Cambridge Distributed Systems</a:t>
            </a:r>
            <a:r>
              <a:rPr b="0" lang="fr-FR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Group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Réplication optimiste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2001+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8360" y="1766880"/>
            <a:ext cx="73440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Partage en écriture décentralisé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IceCube 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oteur général de réconcilia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ournalisation d’opéra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ramétré par la sémantiq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hérence à term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odèle : opérations + contrain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sûreté + vivaci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invariant globa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décrire et comprendre les solu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rès préliminai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D00-5332-4F33-BAEE-F99F432476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808080"/>
                </a:solidFill>
                <a:latin typeface="Arial"/>
              </a:rPr>
              <a:t>2. Réplication optimiste et IceCube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timistic replication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8360" y="1628640"/>
            <a:ext cx="66960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Replicas 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f shared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on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it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Without synchronisation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eer-to-peer read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update!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pplication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high latency network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isconnected opera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operative work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mproves availability &amp; performa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9759"/>
                </a:solidFill>
                <a:latin typeface="Arial"/>
              </a:rPr>
              <a:t>Consistency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 a posteriori, offli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erge independent upda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2AC-8EF8-4753-8862-8EE97BE108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ample: cooperative engineering with CV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8360" y="2058480"/>
            <a:ext cx="734400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CVS: developing shared cod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Local, disconnected replica: no interfer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Conflict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Write same file =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syntactic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Overlap in file = violates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dit semantic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Doesn’t compile, test = violates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application semantic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Both sides of a conflict are excluded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Manual repai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AB1-2B35-46FF-9139-E3908EDD3A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ample: Bayou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General-purpose databas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ny replica can update, log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ction = { dependency check, operation, merge-procedure }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ptimistic replication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pidemic exchange log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{ roll-back, replay }*; comm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p-check: semantic check for conflict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erge-proc: semantic repai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942-6979-4DA6-86CB-ED1EA075DB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4"/>
            <a:endCxn id="220" idx="2"/>
          </p:cNvCxnSpPr>
          <p:nvPr/>
        </p:nvCxnSpPr>
        <p:spPr>
          <a:xfrm>
            <a:off x="1476000" y="2387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221" name=""/>
          <p:cNvSpPr/>
          <p:nvPr/>
        </p:nvSpPr>
        <p:spPr>
          <a:xfrm>
            <a:off x="4716360" y="4437000"/>
            <a:ext cx="3888000" cy="503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eration-based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557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fe96b4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4" name="laptop"/>
          <p:cNvSpPr/>
          <p:nvPr/>
        </p:nvSpPr>
        <p:spPr>
          <a:xfrm>
            <a:off x="971640" y="1557360"/>
            <a:ext cx="637920" cy="479520"/>
          </a:xfrm>
          <a:prstGeom prst="pie">
            <a:avLst/>
          </a:prstGeom>
          <a:solidFill>
            <a:srgbClr val="fe9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059280" y="2206800"/>
            <a:ext cx="360360" cy="4032000"/>
            <a:chOff x="3059280" y="2206800"/>
            <a:chExt cx="360360" cy="4032000"/>
          </a:xfrm>
        </p:grpSpPr>
        <p:sp>
          <p:nvSpPr>
            <p:cNvPr id="220" name=""/>
            <p:cNvSpPr/>
            <p:nvPr/>
          </p:nvSpPr>
          <p:spPr>
            <a:xfrm>
              <a:off x="3059280" y="22068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9280" y="58784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cxnSp>
        <p:nvCxnSpPr>
          <p:cNvPr id="228" name=""/>
          <p:cNvCxnSpPr>
            <a:stCxn id="225" idx="4"/>
            <a:endCxn id="227" idx="2"/>
          </p:cNvCxnSpPr>
          <p:nvPr/>
        </p:nvCxnSpPr>
        <p:spPr>
          <a:xfrm>
            <a:off x="1476000" y="6059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229" name=""/>
          <p:cNvGrpSpPr/>
          <p:nvPr/>
        </p:nvGrpSpPr>
        <p:grpSpPr>
          <a:xfrm>
            <a:off x="1735200" y="2306520"/>
            <a:ext cx="144360" cy="3816360"/>
            <a:chOff x="1735200" y="2306520"/>
            <a:chExt cx="144360" cy="3816360"/>
          </a:xfrm>
        </p:grpSpPr>
        <p:sp>
          <p:nvSpPr>
            <p:cNvPr id="230" name=""/>
            <p:cNvSpPr/>
            <p:nvPr/>
          </p:nvSpPr>
          <p:spPr>
            <a:xfrm>
              <a:off x="173520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520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68360" y="5229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33" name="laptop"/>
          <p:cNvSpPr/>
          <p:nvPr/>
        </p:nvSpPr>
        <p:spPr>
          <a:xfrm>
            <a:off x="971640" y="5229360"/>
            <a:ext cx="637920" cy="479160"/>
          </a:xfrm>
          <a:prstGeom prst="pie">
            <a:avLst/>
          </a:prstGeom>
          <a:solidFill>
            <a:srgbClr val="e1f3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59280" y="3833640"/>
            <a:ext cx="3242160" cy="998640"/>
            <a:chOff x="4859280" y="3833640"/>
            <a:chExt cx="3242160" cy="998640"/>
          </a:xfrm>
        </p:grpSpPr>
        <p:cxnSp>
          <p:nvCxnSpPr>
            <p:cNvPr id="235" name=""/>
            <p:cNvCxnSpPr>
              <a:stCxn id="236" idx="4"/>
              <a:endCxn id="237" idx="2"/>
            </p:cNvCxnSpPr>
            <p:nvPr/>
          </p:nvCxnSpPr>
          <p:spPr>
            <a:xfrm>
              <a:off x="5219640" y="465264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48592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592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239" name=""/>
            <p:cNvCxnSpPr>
              <a:stCxn id="238" idx="4"/>
              <a:endCxn id="240" idx="2"/>
            </p:cNvCxnSpPr>
            <p:nvPr/>
          </p:nvCxnSpPr>
          <p:spPr>
            <a:xfrm>
              <a:off x="5219640" y="401436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</p:grpSp>
      <p:sp>
        <p:nvSpPr>
          <p:cNvPr id="241" name=""/>
          <p:cNvSpPr/>
          <p:nvPr/>
        </p:nvSpPr>
        <p:spPr>
          <a:xfrm>
            <a:off x="3755880" y="342756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101080" y="3833640"/>
            <a:ext cx="360360" cy="998640"/>
            <a:chOff x="8101080" y="3833640"/>
            <a:chExt cx="360360" cy="998640"/>
          </a:xfrm>
        </p:grpSpPr>
        <p:sp>
          <p:nvSpPr>
            <p:cNvPr id="237" name=""/>
            <p:cNvSpPr/>
            <p:nvPr/>
          </p:nvSpPr>
          <p:spPr>
            <a:xfrm>
              <a:off x="81010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010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2a5554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472000" y="393372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96000" y="3933720"/>
            <a:ext cx="144360" cy="782640"/>
            <a:chOff x="5796000" y="3933720"/>
            <a:chExt cx="144360" cy="782640"/>
          </a:xfrm>
        </p:grpSpPr>
        <p:sp>
          <p:nvSpPr>
            <p:cNvPr id="245" name=""/>
            <p:cNvSpPr/>
            <p:nvPr/>
          </p:nvSpPr>
          <p:spPr>
            <a:xfrm>
              <a:off x="5796000" y="457200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96000" y="39337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19640" y="3933720"/>
            <a:ext cx="144720" cy="782640"/>
            <a:chOff x="6119640" y="3933720"/>
            <a:chExt cx="144720" cy="782640"/>
          </a:xfrm>
        </p:grpSpPr>
        <p:sp>
          <p:nvSpPr>
            <p:cNvPr id="248" name=""/>
            <p:cNvSpPr/>
            <p:nvPr/>
          </p:nvSpPr>
          <p:spPr>
            <a:xfrm>
              <a:off x="6119640" y="4572000"/>
              <a:ext cx="144720" cy="14436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9640" y="3933720"/>
              <a:ext cx="144720" cy="14472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443640" y="39337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91280" y="3933720"/>
            <a:ext cx="144720" cy="782640"/>
            <a:chOff x="7091280" y="3933720"/>
            <a:chExt cx="144720" cy="782640"/>
          </a:xfrm>
        </p:grpSpPr>
        <p:sp>
          <p:nvSpPr>
            <p:cNvPr id="252" name=""/>
            <p:cNvSpPr/>
            <p:nvPr/>
          </p:nvSpPr>
          <p:spPr>
            <a:xfrm>
              <a:off x="7091280" y="4572000"/>
              <a:ext cx="14472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1280" y="3933720"/>
              <a:ext cx="14472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415280" y="3933720"/>
            <a:ext cx="144360" cy="782640"/>
            <a:chOff x="7415280" y="3933720"/>
            <a:chExt cx="144360" cy="782640"/>
          </a:xfrm>
        </p:grpSpPr>
        <p:sp>
          <p:nvSpPr>
            <p:cNvPr id="255" name=""/>
            <p:cNvSpPr/>
            <p:nvPr/>
          </p:nvSpPr>
          <p:spPr>
            <a:xfrm>
              <a:off x="7415280" y="457200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15280" y="39337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738920" y="39337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500280"/>
            <a:ext cx="287280" cy="50328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987640" y="2133720"/>
            <a:ext cx="539280" cy="4246200"/>
            <a:chOff x="2987640" y="2133720"/>
            <a:chExt cx="539280" cy="4246200"/>
          </a:xfrm>
        </p:grpSpPr>
        <p:grpSp>
          <p:nvGrpSpPr>
            <p:cNvPr id="260" name=""/>
            <p:cNvGrpSpPr/>
            <p:nvPr/>
          </p:nvGrpSpPr>
          <p:grpSpPr>
            <a:xfrm>
              <a:off x="2987640" y="5805360"/>
              <a:ext cx="539280" cy="574560"/>
              <a:chOff x="2987640" y="5805360"/>
              <a:chExt cx="539280" cy="574560"/>
            </a:xfrm>
          </p:grpSpPr>
          <p:sp>
            <p:nvSpPr>
              <p:cNvPr id="261" name=""/>
              <p:cNvSpPr/>
              <p:nvPr/>
            </p:nvSpPr>
            <p:spPr>
              <a:xfrm>
                <a:off x="2987640" y="5805360"/>
                <a:ext cx="468360" cy="5745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3024000" y="5805360"/>
                <a:ext cx="502920" cy="5396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987640" y="2133720"/>
              <a:ext cx="539280" cy="574560"/>
              <a:chOff x="2987640" y="2133720"/>
              <a:chExt cx="539280" cy="574560"/>
            </a:xfrm>
          </p:grpSpPr>
          <p:sp>
            <p:nvSpPr>
              <p:cNvPr id="264" name=""/>
              <p:cNvSpPr/>
              <p:nvPr/>
            </p:nvSpPr>
            <p:spPr>
              <a:xfrm>
                <a:off x="2987640" y="2133720"/>
                <a:ext cx="468360" cy="5745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3024000" y="2133720"/>
                <a:ext cx="502920" cy="5396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2195640" y="2781360"/>
            <a:ext cx="2232000" cy="1008000"/>
          </a:xfrm>
          <a:prstGeom prst="line">
            <a:avLst/>
          </a:prstGeom>
          <a:ln w="9360">
            <a:solidFill>
              <a:srgbClr val="2a555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95640" y="4652640"/>
            <a:ext cx="2232000" cy="1081080"/>
          </a:xfrm>
          <a:prstGeom prst="line">
            <a:avLst/>
          </a:prstGeom>
          <a:ln w="9360">
            <a:solidFill>
              <a:srgbClr val="2a555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055960" y="2306520"/>
            <a:ext cx="144360" cy="3816360"/>
            <a:chOff x="2055960" y="2306520"/>
            <a:chExt cx="144360" cy="3816360"/>
          </a:xfrm>
        </p:grpSpPr>
        <p:sp>
          <p:nvSpPr>
            <p:cNvPr id="269" name=""/>
            <p:cNvSpPr/>
            <p:nvPr/>
          </p:nvSpPr>
          <p:spPr>
            <a:xfrm>
              <a:off x="20559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59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378160" y="2306520"/>
            <a:ext cx="144360" cy="3816360"/>
            <a:chOff x="2378160" y="2306520"/>
            <a:chExt cx="144360" cy="3816360"/>
          </a:xfrm>
        </p:grpSpPr>
        <p:sp>
          <p:nvSpPr>
            <p:cNvPr id="272" name=""/>
            <p:cNvSpPr/>
            <p:nvPr/>
          </p:nvSpPr>
          <p:spPr>
            <a:xfrm>
              <a:off x="23781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781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700360" y="2306520"/>
            <a:ext cx="144360" cy="3816360"/>
            <a:chOff x="2700360" y="2306520"/>
            <a:chExt cx="144360" cy="3816360"/>
          </a:xfrm>
        </p:grpSpPr>
        <p:sp>
          <p:nvSpPr>
            <p:cNvPr id="275" name=""/>
            <p:cNvSpPr/>
            <p:nvPr/>
          </p:nvSpPr>
          <p:spPr>
            <a:xfrm>
              <a:off x="27003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03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767640" y="4572000"/>
            <a:ext cx="144360" cy="14436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4160" y="508176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554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554"/>
                </a:solidFill>
                <a:latin typeface="Arial"/>
              </a:rPr>
              <a:t>commitment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C08-E36C-429A-916B-7CA89E14EB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47640" y="1628640"/>
            <a:ext cx="7201080" cy="0"/>
          </a:xfrm>
          <a:prstGeom prst="line">
            <a:avLst/>
          </a:prstGeom>
          <a:ln w="12600">
            <a:solidFill>
              <a:srgbClr val="2a55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2797200"/>
            <a:ext cx="7201080" cy="0"/>
          </a:xfrm>
          <a:prstGeom prst="line">
            <a:avLst/>
          </a:prstGeom>
          <a:ln w="12600">
            <a:solidFill>
              <a:srgbClr val="2a55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ecution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8000" y="3995280"/>
            <a:ext cx="7775640" cy="23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peration = code + pre/post-condi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hedule must satisf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Violation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conflic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But pre/post-conditions often unknow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rvative approxima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567520" y="1539720"/>
            <a:ext cx="2722680" cy="858960"/>
            <a:chOff x="2567520" y="1539720"/>
            <a:chExt cx="2722680" cy="858960"/>
          </a:xfrm>
        </p:grpSpPr>
        <p:sp>
          <p:nvSpPr>
            <p:cNvPr id="284" name=""/>
            <p:cNvSpPr/>
            <p:nvPr/>
          </p:nvSpPr>
          <p:spPr>
            <a:xfrm>
              <a:off x="2921040" y="161604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7520" y="170028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10400" y="1700280"/>
              <a:ext cx="12798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f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f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0"/>
              <a:endCxn id="285" idx="0"/>
            </p:cNvCxnSpPr>
            <p:nvPr/>
          </p:nvCxnSpPr>
          <p:spPr>
            <a:xfrm>
              <a:off x="2921040" y="1539720"/>
              <a:ext cx="15120" cy="161280"/>
            </a:xfrm>
            <a:prstGeom prst="straightConnector1">
              <a:avLst/>
            </a:prstGeom>
            <a:ln w="12600">
              <a:solidFill>
                <a:srgbClr val="4fa19f"/>
              </a:solidFill>
              <a:miter/>
            </a:ln>
          </p:spPr>
        </p:cxnSp>
        <p:cxnSp>
          <p:nvCxnSpPr>
            <p:cNvPr id="288" name=""/>
            <p:cNvCxnSpPr>
              <a:stCxn id="284" idx="1"/>
              <a:endCxn id="286" idx="0"/>
            </p:cNvCxnSpPr>
            <p:nvPr/>
          </p:nvCxnSpPr>
          <p:spPr>
            <a:xfrm>
              <a:off x="4649760" y="1692360"/>
              <a:ext cx="2160" cy="8640"/>
            </a:xfrm>
            <a:prstGeom prst="straightConnector1">
              <a:avLst/>
            </a:prstGeom>
            <a:ln w="12600">
              <a:solidFill>
                <a:srgbClr val="4fa19f"/>
              </a:solidFill>
              <a:miter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007160" y="2784600"/>
            <a:ext cx="2774160" cy="782280"/>
            <a:chOff x="4007160" y="2784600"/>
            <a:chExt cx="2774160" cy="782280"/>
          </a:xfrm>
        </p:grpSpPr>
        <p:sp>
          <p:nvSpPr>
            <p:cNvPr id="290" name=""/>
            <p:cNvSpPr/>
            <p:nvPr/>
          </p:nvSpPr>
          <p:spPr>
            <a:xfrm>
              <a:off x="4007160" y="286848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61040" y="278460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9640" y="2868480"/>
              <a:ext cx="1381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’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’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67880" y="1633680"/>
            <a:ext cx="2739600" cy="782280"/>
            <a:chOff x="6167880" y="1633680"/>
            <a:chExt cx="2739600" cy="782280"/>
          </a:xfrm>
        </p:grpSpPr>
        <p:sp>
          <p:nvSpPr>
            <p:cNvPr id="294" name=""/>
            <p:cNvSpPr/>
            <p:nvPr/>
          </p:nvSpPr>
          <p:spPr>
            <a:xfrm>
              <a:off x="6521400" y="163368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880" y="171756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92760" y="1717560"/>
              <a:ext cx="13147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470200" y="2924280"/>
            <a:ext cx="1222200" cy="647640"/>
            <a:chOff x="5470200" y="2924280"/>
            <a:chExt cx="1222200" cy="647640"/>
          </a:xfrm>
        </p:grpSpPr>
        <p:sp>
          <p:nvSpPr>
            <p:cNvPr id="298" name=""/>
            <p:cNvSpPr/>
            <p:nvPr/>
          </p:nvSpPr>
          <p:spPr>
            <a:xfrm flipH="1">
              <a:off x="5541480" y="2924280"/>
              <a:ext cx="107964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5470200" y="2995200"/>
              <a:ext cx="1222200" cy="505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945040" y="1628640"/>
            <a:ext cx="1222560" cy="647640"/>
            <a:chOff x="5945040" y="1628640"/>
            <a:chExt cx="1222560" cy="647640"/>
          </a:xfrm>
        </p:grpSpPr>
        <p:sp>
          <p:nvSpPr>
            <p:cNvPr id="301" name=""/>
            <p:cNvSpPr/>
            <p:nvPr/>
          </p:nvSpPr>
          <p:spPr>
            <a:xfrm flipH="1">
              <a:off x="6016680" y="1628640"/>
              <a:ext cx="107928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945040" y="1699920"/>
              <a:ext cx="1222560" cy="50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F24-BA79-46D9-8349-51C4E6E110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Happens-befor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25360" y="1601640"/>
            <a:ext cx="53182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True constraints unknow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precedes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in proces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sends,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receiv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690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(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(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||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|| 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does not cause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might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cause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Partial order, consistent with causal depend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hedule consistent with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06208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2606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3182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3212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3212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3224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3224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198900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32000" y="25351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3200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3212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3224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32000" y="3111480"/>
            <a:ext cx="14472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08" idx="5"/>
            <a:endCxn id="311" idx="1"/>
          </p:cNvCxnSpPr>
          <p:nvPr/>
        </p:nvCxnSpPr>
        <p:spPr>
          <a:xfrm>
            <a:off x="1455840" y="2112480"/>
            <a:ext cx="497520" cy="443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21" name=""/>
          <p:cNvCxnSpPr>
            <a:stCxn id="313" idx="5"/>
            <a:endCxn id="319" idx="1"/>
          </p:cNvCxnSpPr>
          <p:nvPr/>
        </p:nvCxnSpPr>
        <p:spPr>
          <a:xfrm>
            <a:off x="2655360" y="2658960"/>
            <a:ext cx="497880" cy="4737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22" name=""/>
          <p:cNvCxnSpPr>
            <a:stCxn id="317" idx="7"/>
            <a:endCxn id="312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sp>
        <p:nvSpPr>
          <p:cNvPr id="323" name=""/>
          <p:cNvSpPr/>
          <p:nvPr/>
        </p:nvSpPr>
        <p:spPr>
          <a:xfrm>
            <a:off x="612720" y="4437000"/>
            <a:ext cx="2806920" cy="3168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7920" y="437976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5252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30400" y="437976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2104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43160" y="437976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8776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65280" y="437976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74640" y="4379760"/>
            <a:ext cx="14472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9712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0988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2B1-150C-40AD-B9AD-642900E1CA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58 -0.35069 L 1.11111E-006 -3.7037E-007 E">
                                      <p:cBhvr>
                                        <p:cTn id="23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722 -0.27083 L 1.94444E-006 -4.07407E-006 E">
                                      <p:cBhvr>
                                        <p:cTn id="236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2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8872 -0.26944 L -3.61111E-006 -4.07407E-006 E">
                                      <p:cBhvr>
                                        <p:cTn id="239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4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6302 -0.34791 L 8.33333E-007 7.40741E-006 E">
                                      <p:cBhvr>
                                        <p:cTn id="242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6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269 -0.18449 L 0.00018 -0.00046 E">
                                      <p:cBhvr>
                                        <p:cTn id="245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8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493 -0.18518 L 0.00035 0.00093 E">
                                      <p:cBhvr>
                                        <p:cTn id="248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5556 -0.34768 L -0.00017 0.00093 E">
                                      <p:cBhvr>
                                        <p:cTn id="251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2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3178 -0.26921 L 5E-006 0.00093 E">
                                      <p:cBhvr>
                                        <p:cTn id="254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56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7309 -0.26921 L -0.00035 0.00024 E">
                                      <p:cBhvr>
                                        <p:cTn id="257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826 -0.34907 L 0.00017 0.00024 E">
                                      <p:cBhvr>
                                        <p:cTn id="260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4271 -0.18611 L -0.00017 0.00024 E">
                                      <p:cBhvr>
                                        <p:cTn id="263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18611 L -0.00052 0.00024 E">
                                      <p:cBhvr>
                                        <p:cTn id="266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206208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2606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87280" y="3182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yntactic vs. semantic mechanism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529272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alar timestamp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no concurrency detec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very conservative approx. of causa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Vector timestamp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tect concurrenc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rvative approx. of causa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ternative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xplicit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constrai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3212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212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3224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3224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198900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25351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212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3224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32000" y="3111480"/>
            <a:ext cx="14472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41" idx="5"/>
            <a:endCxn id="344" idx="1"/>
          </p:cNvCxnSpPr>
          <p:nvPr/>
        </p:nvCxnSpPr>
        <p:spPr>
          <a:xfrm>
            <a:off x="1455840" y="2112480"/>
            <a:ext cx="497520" cy="443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4" name=""/>
          <p:cNvCxnSpPr>
            <a:stCxn id="346" idx="5"/>
            <a:endCxn id="352" idx="1"/>
          </p:cNvCxnSpPr>
          <p:nvPr/>
        </p:nvCxnSpPr>
        <p:spPr>
          <a:xfrm>
            <a:off x="2655360" y="2658960"/>
            <a:ext cx="497880" cy="4737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5" name=""/>
          <p:cNvCxnSpPr>
            <a:stCxn id="350" idx="7"/>
            <a:endCxn id="345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6" name=""/>
          <p:cNvCxnSpPr>
            <a:stCxn id="341" idx="6"/>
            <a:endCxn id="343" idx="2"/>
          </p:cNvCxnSpPr>
          <p:nvPr/>
        </p:nvCxnSpPr>
        <p:spPr>
          <a:xfrm>
            <a:off x="1476360" y="2061720"/>
            <a:ext cx="45648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2" idx="6"/>
            <a:endCxn id="352" idx="1"/>
          </p:cNvCxnSpPr>
          <p:nvPr/>
        </p:nvCxnSpPr>
        <p:spPr>
          <a:xfrm>
            <a:off x="1476000" y="2607840"/>
            <a:ext cx="1677240" cy="52416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1" idx="5"/>
            <a:endCxn id="346" idx="2"/>
          </p:cNvCxnSpPr>
          <p:nvPr/>
        </p:nvCxnSpPr>
        <p:spPr>
          <a:xfrm>
            <a:off x="1455840" y="2112840"/>
            <a:ext cx="1077120" cy="496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6" idx="6"/>
            <a:endCxn id="348" idx="2"/>
          </p:cNvCxnSpPr>
          <p:nvPr/>
        </p:nvCxnSpPr>
        <p:spPr>
          <a:xfrm>
            <a:off x="2676240" y="2607840"/>
            <a:ext cx="45612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0" idx="7"/>
            <a:endCxn id="345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9" idx="6"/>
            <a:endCxn id="350" idx="2"/>
          </p:cNvCxnSpPr>
          <p:nvPr/>
        </p:nvCxnSpPr>
        <p:spPr>
          <a:xfrm>
            <a:off x="1476360" y="3184200"/>
            <a:ext cx="45648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612720" y="4448160"/>
            <a:ext cx="2806920" cy="3168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7968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84400" y="4392720"/>
            <a:ext cx="144720" cy="14436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4804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4400" y="43909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46040" y="439092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6040" y="43909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276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51120" y="43909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78040" y="439092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11320" y="439092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19480" y="439272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14400" y="4390920"/>
            <a:ext cx="14472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E85-A19A-4571-8B16-88452C8316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28 -0.27222 L 1.38889E-006 -4.44444E-006 E">
                                      <p:cBhvr>
                                        <p:cTn id="286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29 -0.18588 L 0.00017 -0.00046 E">
                                      <p:cBhvr>
                                        <p:cTn id="290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93 -0.18796 L 0.00035 0.00093 E">
                                      <p:cBhvr>
                                        <p:cTn id="292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21 -0.35023 L -4.72222E-006 -4.44444E-006 E">
                                      <p:cBhvr>
                                        <p:cTn id="294" dur="1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1 -0.35023 L 4.44444E-006 -4.44444E-006 E">
                                      <p:cBhvr>
                                        <p:cTn id="298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17 -0.1875 L -0.00052 0.00024 E">
                                      <p:cBhvr>
                                        <p:cTn id="302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-0.35023 L -8.33333E-007 -4.44444E-006 E">
                                      <p:cBhvr>
                                        <p:cTn id="306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72 -0.35023 L 0.00017 0.00024 E">
                                      <p:cBhvr>
                                        <p:cTn id="308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27199 L 3.88889E-006 0.00093 E">
                                      <p:cBhvr>
                                        <p:cTn id="310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2706 L -0.00035 0.00024 E">
                                      <p:cBhvr>
                                        <p:cTn id="312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7 -0.27292 L -1.38889E-006 4.07407E-006 E">
                                      <p:cBhvr>
                                        <p:cTn id="316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-0.18959 L -0.00018 0.00023 E">
                                      <p:cBhvr>
                                        <p:cTn id="318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Constraints between operation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Not all schedules are acceptabl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traints, e.g.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x &gt; 50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respect causal order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l-or-nothing trans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ternative execution path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flicting operations exclude each oth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CAE-C5D1-48D5-ADA3-470D6BC2FE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7928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08080"/>
                </a:solidFill>
                <a:latin typeface="Arial"/>
              </a:rPr>
              <a:t>1. Résumé des épisodes précédents…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Primitive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68360" y="1814400"/>
            <a:ext cx="73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traint =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predicate (action, schedule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eclarative (“static binary”)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MustHave: a </a:t>
            </a:r>
            <a:r>
              <a:rPr b="0" lang="en-US" sz="2800" spc="-1" strike="noStrike">
                <a:solidFill>
                  <a:srgbClr val="2a5554"/>
                </a:solidFill>
                <a:latin typeface="Wingdings 3"/>
                <a:ea typeface="Wingdings 3"/>
              </a:rPr>
              <a:t>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f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 and a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 then b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(not necessarily contiguous nor in order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rder: a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f a, b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 and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 then a before b in 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(not necessarily both nor contiguous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mperative (dynamic): a.preCondition (State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CBE-F729-4671-9705-ED6C13DFA2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128000" y="1692360"/>
            <a:ext cx="684000" cy="154764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00720" y="2197080"/>
            <a:ext cx="1692000" cy="503280"/>
          </a:xfrm>
          <a:prstGeom prst="rect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log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2448000"/>
            <a:ext cx="69487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8000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24360" y="230508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8764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8472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08720" y="1908000"/>
            <a:ext cx="289080" cy="28764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5" idx="4"/>
            <a:endCxn id="386" idx="4"/>
          </p:cNvCxnSpPr>
          <p:nvPr/>
        </p:nvCxnSpPr>
        <p:spPr>
          <a:xfrm flipH="1" rot="16200000">
            <a:off x="2878920" y="1944360"/>
            <a:ext cx="2160" cy="1297800"/>
          </a:xfrm>
          <a:prstGeom prst="bentConnector3">
            <a:avLst>
              <a:gd name="adj1" fmla="val 30800000"/>
            </a:avLst>
          </a:prstGeom>
          <a:ln cap="sq" w="12600">
            <a:solidFill>
              <a:srgbClr val="2a5554"/>
            </a:solidFill>
            <a:miter/>
            <a:tailEnd len="lg" type="triangle" w="lg"/>
          </a:ln>
        </p:spPr>
      </p:cxnSp>
      <p:sp>
        <p:nvSpPr>
          <p:cNvPr id="389" name=""/>
          <p:cNvSpPr/>
          <p:nvPr/>
        </p:nvSpPr>
        <p:spPr>
          <a:xfrm>
            <a:off x="7308720" y="266400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63680" y="1747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parcel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25440" y="1440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predecessor-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successor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78440" y="12794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alternatives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90160" y="3583080"/>
            <a:ext cx="79534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xpress user intent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redecessor/successor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2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9759"/>
                </a:solidFill>
                <a:latin typeface="Arial"/>
              </a:rPr>
              <a:t>b uses effect of a; “a causes b”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arcel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2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ransaction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ternatives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7B6-137A-4DE7-AD5A-135C72BFE9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159000" y="3259080"/>
            <a:ext cx="684360" cy="19702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2760000">
            <a:off x="2466360" y="3015360"/>
            <a:ext cx="684000" cy="244800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Object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00720" y="1711440"/>
            <a:ext cx="46432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hared data type advertises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emantic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534960" indent="-16992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utually exclusi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-16992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est order (e.g. bank: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redits before debits)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nly between concurrent ac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so: dynamic constrai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6080" y="3583080"/>
            <a:ext cx="39589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40080" y="3440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47720" y="3440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44800" y="344016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6080" y="4834080"/>
            <a:ext cx="39589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40080" y="4691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7720" y="4691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44800" y="469116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0" idx="4"/>
            <a:endCxn id="404" idx="0"/>
          </p:cNvCxnSpPr>
          <p:nvPr/>
        </p:nvCxnSpPr>
        <p:spPr>
          <a:xfrm>
            <a:off x="891720" y="3727080"/>
            <a:ext cx="1080" cy="964440"/>
          </a:xfrm>
          <a:prstGeom prst="straightConnector1">
            <a:avLst/>
          </a:prstGeom>
          <a:ln w="12600">
            <a:solidFill>
              <a:srgbClr val="00ff00"/>
            </a:solidFill>
            <a:prstDash val="sysDot"/>
            <a:miter/>
            <a:headEnd len="lg" type="arrow" w="lg"/>
            <a:tailEnd len="lg" type="arrow" w="lg"/>
          </a:ln>
        </p:spPr>
      </p:cxnSp>
      <p:cxnSp>
        <p:nvCxnSpPr>
          <p:cNvPr id="407" name=""/>
          <p:cNvCxnSpPr>
            <a:stCxn id="400" idx="4"/>
            <a:endCxn id="405" idx="1"/>
          </p:cNvCxnSpPr>
          <p:nvPr/>
        </p:nvCxnSpPr>
        <p:spPr>
          <a:xfrm>
            <a:off x="891720" y="3727440"/>
            <a:ext cx="1196280" cy="1007280"/>
          </a:xfrm>
          <a:prstGeom prst="straightConnector1">
            <a:avLst/>
          </a:prstGeom>
          <a:ln w="12600">
            <a:solidFill>
              <a:srgbClr val="00ff00"/>
            </a:solidFill>
            <a:prstDash val="sysDot"/>
            <a:miter/>
            <a:headEnd len="lg" type="arrow" w="lg"/>
            <a:tailEnd len="lg" type="arrow" w="lg"/>
          </a:ln>
        </p:spPr>
      </p:cxnSp>
      <p:cxnSp>
        <p:nvCxnSpPr>
          <p:cNvPr id="408" name=""/>
          <p:cNvCxnSpPr>
            <a:stCxn id="401" idx="3"/>
            <a:endCxn id="404" idx="7"/>
          </p:cNvCxnSpPr>
          <p:nvPr/>
        </p:nvCxnSpPr>
        <p:spPr>
          <a:xfrm flipH="1">
            <a:off x="992880" y="3684240"/>
            <a:ext cx="1094760" cy="105012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lg" type="triangle" w="lg"/>
          </a:ln>
        </p:spPr>
      </p:cxnSp>
      <p:sp>
        <p:nvSpPr>
          <p:cNvPr id="409" name=""/>
          <p:cNvSpPr/>
          <p:nvPr/>
        </p:nvSpPr>
        <p:spPr>
          <a:xfrm>
            <a:off x="340200" y="2873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commute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4320" y="256536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33280" y="24922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mutually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1DC-16BE-47F5-BBAD-D13E32CEDF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timistic concurrency control &amp; scheduling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Two actions are either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dependence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utati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any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current with favourable ord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non-conflicting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current and conflict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or exclude one, the other, or both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676-E643-49E5-B643-82D722C4CE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 scheduling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68000" y="1988640"/>
            <a:ext cx="777564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sight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flict: choice of which action to exclud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aximise val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EED-29D5-4246-825C-F4D0CAC724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716360" y="4437000"/>
            <a:ext cx="3888000" cy="503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 scheduling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1600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5928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8" idx="4"/>
            <a:endCxn id="419" idx="2"/>
          </p:cNvCxnSpPr>
          <p:nvPr/>
        </p:nvCxnSpPr>
        <p:spPr>
          <a:xfrm>
            <a:off x="1476000" y="2387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421" name=""/>
          <p:cNvSpPr/>
          <p:nvPr/>
        </p:nvSpPr>
        <p:spPr>
          <a:xfrm>
            <a:off x="173520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6532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9724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2736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1557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fe96b4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6" name="laptop"/>
          <p:cNvSpPr/>
          <p:nvPr/>
        </p:nvSpPr>
        <p:spPr>
          <a:xfrm>
            <a:off x="971640" y="1557360"/>
            <a:ext cx="637920" cy="479520"/>
          </a:xfrm>
          <a:prstGeom prst="pie">
            <a:avLst/>
          </a:prstGeom>
          <a:solidFill>
            <a:srgbClr val="fe9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900000" y="3415680"/>
            <a:ext cx="646200" cy="587520"/>
            <a:chOff x="900000" y="3415680"/>
            <a:chExt cx="646200" cy="587520"/>
          </a:xfrm>
        </p:grpSpPr>
        <p:sp>
          <p:nvSpPr>
            <p:cNvPr id="428" name=""/>
            <p:cNvSpPr/>
            <p:nvPr/>
          </p:nvSpPr>
          <p:spPr>
            <a:xfrm>
              <a:off x="900000" y="3679560"/>
              <a:ext cx="7128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16000" y="3645000"/>
              <a:ext cx="7128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31640" y="39319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74560" y="3645000"/>
              <a:ext cx="7164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432" name=""/>
            <p:cNvCxnSpPr>
              <a:stCxn id="429" idx="5"/>
            </p:cNvCxnSpPr>
            <p:nvPr/>
          </p:nvCxnSpPr>
          <p:spPr>
            <a:xfrm>
              <a:off x="1176120" y="3704760"/>
              <a:ext cx="155880" cy="22716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  <p:cxnSp>
          <p:nvCxnSpPr>
            <p:cNvPr id="433" name=""/>
            <p:cNvCxnSpPr>
              <a:stCxn id="431" idx="1"/>
              <a:endCxn id="428" idx="0"/>
            </p:cNvCxnSpPr>
            <p:nvPr/>
          </p:nvCxnSpPr>
          <p:spPr>
            <a:xfrm rot="5400000">
              <a:off x="1198800" y="3391920"/>
              <a:ext cx="24120" cy="550080"/>
            </a:xfrm>
            <a:prstGeom prst="curvedConnector5">
              <a:avLst>
                <a:gd name="adj1" fmla="val -1006060"/>
                <a:gd name="adj2" fmla="val 49967"/>
                <a:gd name="adj3" fmla="val -1006060"/>
              </a:avLst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434" name=""/>
          <p:cNvSpPr/>
          <p:nvPr/>
        </p:nvSpPr>
        <p:spPr>
          <a:xfrm>
            <a:off x="111600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34" idx="4"/>
            <a:endCxn id="435" idx="2"/>
          </p:cNvCxnSpPr>
          <p:nvPr/>
        </p:nvCxnSpPr>
        <p:spPr>
          <a:xfrm>
            <a:off x="1476000" y="6059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437" name=""/>
          <p:cNvSpPr/>
          <p:nvPr/>
        </p:nvSpPr>
        <p:spPr>
          <a:xfrm>
            <a:off x="173520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6532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9724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2736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5229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dfd6e6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2" name="laptop"/>
          <p:cNvSpPr/>
          <p:nvPr/>
        </p:nvSpPr>
        <p:spPr>
          <a:xfrm>
            <a:off x="971640" y="5229360"/>
            <a:ext cx="637920" cy="479160"/>
          </a:xfrm>
          <a:prstGeom prst="pie">
            <a:avLst/>
          </a:prstGeom>
          <a:solidFill>
            <a:srgbClr val="dfd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4" idx="4"/>
            <a:endCxn id="445" idx="2"/>
          </p:cNvCxnSpPr>
          <p:nvPr/>
        </p:nvCxnSpPr>
        <p:spPr>
          <a:xfrm>
            <a:off x="5219640" y="465264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46" name=""/>
          <p:cNvCxnSpPr>
            <a:stCxn id="447" idx="4"/>
            <a:endCxn id="448" idx="2"/>
          </p:cNvCxnSpPr>
          <p:nvPr/>
        </p:nvCxnSpPr>
        <p:spPr>
          <a:xfrm>
            <a:off x="5219640" y="656244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49" name=""/>
          <p:cNvCxnSpPr>
            <a:stCxn id="450" idx="4"/>
            <a:endCxn id="451" idx="2"/>
          </p:cNvCxnSpPr>
          <p:nvPr/>
        </p:nvCxnSpPr>
        <p:spPr>
          <a:xfrm>
            <a:off x="5219640" y="210456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52" name=""/>
          <p:cNvCxnSpPr>
            <a:stCxn id="453" idx="4"/>
            <a:endCxn id="454" idx="2"/>
          </p:cNvCxnSpPr>
          <p:nvPr/>
        </p:nvCxnSpPr>
        <p:spPr>
          <a:xfrm>
            <a:off x="5219640" y="274140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455" name=""/>
          <p:cNvGrpSpPr/>
          <p:nvPr/>
        </p:nvGrpSpPr>
        <p:grpSpPr>
          <a:xfrm>
            <a:off x="6119640" y="2068560"/>
            <a:ext cx="71640" cy="4529160"/>
            <a:chOff x="6119640" y="2068560"/>
            <a:chExt cx="71640" cy="4529160"/>
          </a:xfrm>
        </p:grpSpPr>
        <p:sp>
          <p:nvSpPr>
            <p:cNvPr id="456" name=""/>
            <p:cNvSpPr/>
            <p:nvPr/>
          </p:nvSpPr>
          <p:spPr>
            <a:xfrm>
              <a:off x="6119640" y="46162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1964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19640" y="270504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738920" y="2068560"/>
            <a:ext cx="71640" cy="708120"/>
            <a:chOff x="7738920" y="2068560"/>
            <a:chExt cx="71640" cy="708120"/>
          </a:xfrm>
        </p:grpSpPr>
        <p:sp>
          <p:nvSpPr>
            <p:cNvPr id="461" name=""/>
            <p:cNvSpPr/>
            <p:nvPr/>
          </p:nvSpPr>
          <p:spPr>
            <a:xfrm>
              <a:off x="7738920" y="20685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3892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859280" y="1924200"/>
            <a:ext cx="360360" cy="4817880"/>
            <a:chOff x="4859280" y="1924200"/>
            <a:chExt cx="360360" cy="4817880"/>
          </a:xfrm>
        </p:grpSpPr>
        <p:sp>
          <p:nvSpPr>
            <p:cNvPr id="444" name=""/>
            <p:cNvSpPr/>
            <p:nvPr/>
          </p:nvSpPr>
          <p:spPr>
            <a:xfrm>
              <a:off x="48592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59280" y="63817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9280" y="19242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59280" y="256068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59280" y="319716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8101080" y="1924200"/>
            <a:ext cx="360360" cy="4817880"/>
            <a:chOff x="8101080" y="1924200"/>
            <a:chExt cx="360360" cy="4817880"/>
          </a:xfrm>
        </p:grpSpPr>
        <p:sp>
          <p:nvSpPr>
            <p:cNvPr id="445" name=""/>
            <p:cNvSpPr/>
            <p:nvPr/>
          </p:nvSpPr>
          <p:spPr>
            <a:xfrm>
              <a:off x="81010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01080" y="63817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01080" y="19242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01080" y="256068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01080" y="319716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cxnSp>
        <p:nvCxnSpPr>
          <p:cNvPr id="467" name=""/>
          <p:cNvCxnSpPr>
            <a:stCxn id="464" idx="4"/>
            <a:endCxn id="466" idx="2"/>
          </p:cNvCxnSpPr>
          <p:nvPr/>
        </p:nvCxnSpPr>
        <p:spPr>
          <a:xfrm>
            <a:off x="5219640" y="337788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468" name=""/>
          <p:cNvGrpSpPr/>
          <p:nvPr/>
        </p:nvGrpSpPr>
        <p:grpSpPr>
          <a:xfrm>
            <a:off x="5472000" y="2068560"/>
            <a:ext cx="71640" cy="4529160"/>
            <a:chOff x="5472000" y="2068560"/>
            <a:chExt cx="71640" cy="4529160"/>
          </a:xfrm>
        </p:grpSpPr>
        <p:sp>
          <p:nvSpPr>
            <p:cNvPr id="469" name=""/>
            <p:cNvSpPr/>
            <p:nvPr/>
          </p:nvSpPr>
          <p:spPr>
            <a:xfrm>
              <a:off x="5472000" y="652608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200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200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72000" y="334152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796000" y="2068560"/>
            <a:ext cx="71280" cy="4529160"/>
            <a:chOff x="5796000" y="2068560"/>
            <a:chExt cx="71280" cy="4529160"/>
          </a:xfrm>
        </p:grpSpPr>
        <p:sp>
          <p:nvSpPr>
            <p:cNvPr id="474" name=""/>
            <p:cNvSpPr/>
            <p:nvPr/>
          </p:nvSpPr>
          <p:spPr>
            <a:xfrm>
              <a:off x="579600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96000" y="65260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96000" y="206856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96000" y="270504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96000" y="334152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443640" y="2068560"/>
            <a:ext cx="71640" cy="4529160"/>
            <a:chOff x="6443640" y="2068560"/>
            <a:chExt cx="71640" cy="4529160"/>
          </a:xfrm>
        </p:grpSpPr>
        <p:sp>
          <p:nvSpPr>
            <p:cNvPr id="480" name=""/>
            <p:cNvSpPr/>
            <p:nvPr/>
          </p:nvSpPr>
          <p:spPr>
            <a:xfrm>
              <a:off x="644364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4364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3640" y="270504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3640" y="334152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767640" y="2068560"/>
            <a:ext cx="71280" cy="4529160"/>
            <a:chOff x="6767640" y="2068560"/>
            <a:chExt cx="71280" cy="4529160"/>
          </a:xfrm>
        </p:grpSpPr>
        <p:sp>
          <p:nvSpPr>
            <p:cNvPr id="485" name=""/>
            <p:cNvSpPr/>
            <p:nvPr/>
          </p:nvSpPr>
          <p:spPr>
            <a:xfrm>
              <a:off x="676764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67640" y="652608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67640" y="20685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67640" y="270504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67640" y="334152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091280" y="2705040"/>
            <a:ext cx="71640" cy="3892680"/>
            <a:chOff x="7091280" y="2705040"/>
            <a:chExt cx="71640" cy="3892680"/>
          </a:xfrm>
        </p:grpSpPr>
        <p:sp>
          <p:nvSpPr>
            <p:cNvPr id="491" name=""/>
            <p:cNvSpPr/>
            <p:nvPr/>
          </p:nvSpPr>
          <p:spPr>
            <a:xfrm>
              <a:off x="7091280" y="461628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128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9128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91280" y="334152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415280" y="2068560"/>
            <a:ext cx="71280" cy="4529160"/>
            <a:chOff x="7415280" y="2068560"/>
            <a:chExt cx="71280" cy="4529160"/>
          </a:xfrm>
        </p:grpSpPr>
        <p:sp>
          <p:nvSpPr>
            <p:cNvPr id="496" name=""/>
            <p:cNvSpPr/>
            <p:nvPr/>
          </p:nvSpPr>
          <p:spPr>
            <a:xfrm>
              <a:off x="741528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15280" y="65260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15280" y="20685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15280" y="270504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15280" y="334152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195640" y="3429000"/>
            <a:ext cx="503280" cy="502920"/>
            <a:chOff x="2195640" y="3429000"/>
            <a:chExt cx="503280" cy="502920"/>
          </a:xfrm>
        </p:grpSpPr>
        <p:sp>
          <p:nvSpPr>
            <p:cNvPr id="502" name=""/>
            <p:cNvSpPr/>
            <p:nvPr/>
          </p:nvSpPr>
          <p:spPr>
            <a:xfrm>
              <a:off x="2195640" y="342900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0000" y="386064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27280" y="357156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27280" y="386064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1"/>
              <a:endCxn id="502" idx="4"/>
            </p:cNvCxnSpPr>
            <p:nvPr/>
          </p:nvCxnSpPr>
          <p:spPr>
            <a:xfrm flipV="1" rot="16200000">
              <a:off x="2105280" y="3625920"/>
              <a:ext cx="372240" cy="119880"/>
            </a:xfrm>
            <a:prstGeom prst="curvedConnector5">
              <a:avLst>
                <a:gd name="adj1" fmla="val 51210"/>
                <a:gd name="adj2" fmla="val 50000"/>
                <a:gd name="adj3" fmla="val 51210"/>
              </a:avLst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503" idx="6"/>
              <a:endCxn id="505" idx="2"/>
            </p:cNvCxnSpPr>
            <p:nvPr/>
          </p:nvCxnSpPr>
          <p:spPr>
            <a:xfrm>
              <a:off x="2411280" y="3896640"/>
              <a:ext cx="2163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504" idx="4"/>
              <a:endCxn id="503" idx="7"/>
            </p:cNvCxnSpPr>
            <p:nvPr/>
          </p:nvCxnSpPr>
          <p:spPr>
            <a:xfrm flipH="1">
              <a:off x="2400120" y="3642840"/>
              <a:ext cx="264240" cy="22932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</p:grpSp>
      <p:grpSp>
        <p:nvGrpSpPr>
          <p:cNvPr id="509" name=""/>
          <p:cNvGrpSpPr/>
          <p:nvPr/>
        </p:nvGrpSpPr>
        <p:grpSpPr>
          <a:xfrm>
            <a:off x="936360" y="3200040"/>
            <a:ext cx="1475280" cy="757440"/>
            <a:chOff x="936360" y="3200040"/>
            <a:chExt cx="1475280" cy="757440"/>
          </a:xfrm>
        </p:grpSpPr>
        <p:cxnSp>
          <p:nvCxnSpPr>
            <p:cNvPr id="510" name=""/>
            <p:cNvCxnSpPr/>
            <p:nvPr/>
          </p:nvCxnSpPr>
          <p:spPr>
            <a:xfrm flipV="1">
              <a:off x="1403280" y="3885840"/>
              <a:ext cx="1008720" cy="72000"/>
            </a:xfrm>
            <a:prstGeom prst="straightConnector1">
              <a:avLst/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2" idx="7"/>
              <a:endCxn id="428" idx="0"/>
            </p:cNvCxnSpPr>
            <p:nvPr/>
          </p:nvCxnSpPr>
          <p:spPr>
            <a:xfrm rot="5400000">
              <a:off x="1475640" y="2900520"/>
              <a:ext cx="240480" cy="1319760"/>
            </a:xfrm>
            <a:prstGeom prst="curvedConnector5">
              <a:avLst>
                <a:gd name="adj1" fmla="val -100000"/>
                <a:gd name="adj2" fmla="val 49986"/>
                <a:gd name="adj3" fmla="val -100000"/>
              </a:avLst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2340000" y="4292640"/>
            <a:ext cx="1616400" cy="1512720"/>
            <a:chOff x="2340000" y="4292640"/>
            <a:chExt cx="1616400" cy="1512720"/>
          </a:xfrm>
        </p:grpSpPr>
        <p:sp>
          <p:nvSpPr>
            <p:cNvPr id="513" name=""/>
            <p:cNvSpPr/>
            <p:nvPr/>
          </p:nvSpPr>
          <p:spPr>
            <a:xfrm flipV="1">
              <a:off x="2340000" y="4292640"/>
              <a:ext cx="216000" cy="151272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64920" y="46972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Arial"/>
                </a:rPr>
                <a:t>log constraints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618920" y="2565360"/>
            <a:ext cx="1708920" cy="503280"/>
            <a:chOff x="1618920" y="2565360"/>
            <a:chExt cx="1708920" cy="503280"/>
          </a:xfrm>
        </p:grpSpPr>
        <p:sp>
          <p:nvSpPr>
            <p:cNvPr id="516" name=""/>
            <p:cNvSpPr/>
            <p:nvPr/>
          </p:nvSpPr>
          <p:spPr>
            <a:xfrm flipH="1">
              <a:off x="1618920" y="2565360"/>
              <a:ext cx="431640" cy="50328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36360" y="26812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Arial"/>
                </a:rPr>
                <a:t>log constraints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987640" y="3427560"/>
            <a:ext cx="1584360" cy="361440"/>
            <a:chOff x="2987640" y="3427560"/>
            <a:chExt cx="1584360" cy="361440"/>
          </a:xfrm>
        </p:grpSpPr>
        <p:sp>
          <p:nvSpPr>
            <p:cNvPr id="519" name=""/>
            <p:cNvSpPr/>
            <p:nvPr/>
          </p:nvSpPr>
          <p:spPr>
            <a:xfrm flipV="1">
              <a:off x="2987640" y="3644640"/>
              <a:ext cx="1584360" cy="14436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55880" y="342756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7164360" y="1557360"/>
            <a:ext cx="287280" cy="50328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450920" y="2349360"/>
            <a:ext cx="289080" cy="35892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20" y="27892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554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554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859280" y="3500280"/>
            <a:ext cx="3602160" cy="2605320"/>
            <a:chOff x="4859280" y="3500280"/>
            <a:chExt cx="3602160" cy="2605320"/>
          </a:xfrm>
        </p:grpSpPr>
        <p:sp>
          <p:nvSpPr>
            <p:cNvPr id="525" name=""/>
            <p:cNvSpPr/>
            <p:nvPr/>
          </p:nvSpPr>
          <p:spPr>
            <a:xfrm>
              <a:off x="4859280" y="51084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01080" y="51084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25" idx="4"/>
              <a:endCxn id="526" idx="2"/>
            </p:cNvCxnSpPr>
            <p:nvPr/>
          </p:nvCxnSpPr>
          <p:spPr>
            <a:xfrm>
              <a:off x="5219640" y="528912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28" name=""/>
            <p:cNvSpPr/>
            <p:nvPr/>
          </p:nvSpPr>
          <p:spPr>
            <a:xfrm>
              <a:off x="547200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96000" y="525312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1964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4364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67640" y="525312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91280" y="52531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15280" y="525312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38920" y="52531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59280" y="57452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01080" y="57452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38" name=""/>
            <p:cNvCxnSpPr>
              <a:stCxn id="536" idx="4"/>
              <a:endCxn id="537" idx="2"/>
            </p:cNvCxnSpPr>
            <p:nvPr/>
          </p:nvCxnSpPr>
          <p:spPr>
            <a:xfrm>
              <a:off x="5219640" y="592560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39" name=""/>
            <p:cNvSpPr/>
            <p:nvPr/>
          </p:nvSpPr>
          <p:spPr>
            <a:xfrm>
              <a:off x="547200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964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5280" y="588960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3892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592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1010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45" name=""/>
            <p:cNvCxnSpPr>
              <a:stCxn id="543" idx="4"/>
              <a:endCxn id="544" idx="2"/>
            </p:cNvCxnSpPr>
            <p:nvPr/>
          </p:nvCxnSpPr>
          <p:spPr>
            <a:xfrm>
              <a:off x="5219640" y="401436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5472000" y="39783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6000" y="39783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4364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91280" y="39783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15280" y="39783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892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67280" y="3500280"/>
              <a:ext cx="28728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487640" y="4761000"/>
              <a:ext cx="29196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01080" y="5445000"/>
              <a:ext cx="28728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157440" y="1220760"/>
            <a:ext cx="197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a5554"/>
                </a:solidFill>
                <a:latin typeface="Arial"/>
              </a:rPr>
              <a:t>dynamic constraints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987640" y="2133720"/>
            <a:ext cx="539280" cy="574560"/>
            <a:chOff x="2987640" y="2133720"/>
            <a:chExt cx="539280" cy="574560"/>
          </a:xfrm>
        </p:grpSpPr>
        <p:sp>
          <p:nvSpPr>
            <p:cNvPr id="558" name=""/>
            <p:cNvSpPr/>
            <p:nvPr/>
          </p:nvSpPr>
          <p:spPr>
            <a:xfrm>
              <a:off x="2987640" y="2133720"/>
              <a:ext cx="468360" cy="5745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024000" y="2133720"/>
              <a:ext cx="502920" cy="53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987640" y="5805360"/>
            <a:ext cx="539280" cy="574560"/>
            <a:chOff x="2987640" y="5805360"/>
            <a:chExt cx="539280" cy="574560"/>
          </a:xfrm>
        </p:grpSpPr>
        <p:sp>
          <p:nvSpPr>
            <p:cNvPr id="561" name=""/>
            <p:cNvSpPr/>
            <p:nvPr/>
          </p:nvSpPr>
          <p:spPr>
            <a:xfrm>
              <a:off x="2987640" y="5805360"/>
              <a:ext cx="468360" cy="5745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024000" y="5805360"/>
              <a:ext cx="502920" cy="53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AC3-B922-49E8-9779-D660103DDD8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earch vs. syntactic order 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368360" y="1989000"/>
          <a:ext cx="7344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989000"/>
                    <a:ext cx="7344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7164360" y="5589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85B-E966-4A24-862B-D974BC02CC4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Performance of IceCube heuristic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533600" y="1533600"/>
          <a:ext cx="7664400" cy="51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1533600"/>
                    <a:ext cx="766440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12E-7699-47CF-B047-60A058791A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08080"/>
                </a:solidFill>
                <a:latin typeface="Arial"/>
              </a:rPr>
              <a:t>3. Cohérence à terme </a:t>
            </a:r>
            <a:r>
              <a:rPr b="0" i="1" lang="en-GB" sz="5400" spc="-1" strike="noStrike">
                <a:solidFill>
                  <a:srgbClr val="808080"/>
                </a:solidFill>
                <a:latin typeface="Arial"/>
              </a:rPr>
              <a:t>(Eventual consistency)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2133360" y="36892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istent with user inte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istent with data invaria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plicas consistent with each othe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ventual consistency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ach site receives all 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hedule that satisfies constraint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on stable prefix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quivalent result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CB8-9FD2-4751-A173-68E2099C27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Grandes étap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8000" y="1938240"/>
            <a:ext cx="77756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78: Ingénieur ENSEEIHT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78--1980: doctorant LAAS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0--1982: Post-doc MIT Lab. for Computer Science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2--1985: Chargé de Recherches CMIRH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84--1985: INRIA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6--1999: Directeur de recherche, responsable scientifique INRIA projet SOR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93--1994: Cornell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97: Jini, Sun Research Labs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99+: Senior Researcher, MSR Cambridge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874-6F90-496E-829F-5C182BC5C4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68360" y="1571760"/>
            <a:ext cx="66708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Peer-to-peer, indefinite tentative update + advisory reconciliation OK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But stability needed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Users, external world depend on 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Garbage collect multilo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Only stable actions relevant for consistenc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table: eventually decisions not changed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mmitted: definitely included in all schedul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borted: definitely exclud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4C1-1F03-4AA3-AFD8-C9ADBD0E24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: intuitiv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68000" y="2139840"/>
            <a:ext cx="759636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iveness: sites receive all operations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pidemic multicas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Quickl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afety: sites compute the same valu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quivalent schedul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tability: actions eventually not undo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it / abor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E27-4EF4-4EE5-A0FE-69F676C56B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ound schedul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8360" y="2122560"/>
            <a:ext cx="73440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sound =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satisfies constraints for all its action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losed for MustHa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i="1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5f9759"/>
                </a:solidFill>
                <a:latin typeface="Wingdings 3"/>
                <a:ea typeface="Wingdings 3"/>
              </a:rPr>
              <a:t>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b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nsistent with Order (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cyclic)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(a,b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s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)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before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in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ctions succe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s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.preCondition (state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15B-2E2F-405A-B592-819775A512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Maintaining local soundnes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68000" y="1495440"/>
            <a:ext cx="777564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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it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chedule s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Legal: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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=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Safe: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sound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When aborting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,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also abort actions that MustHav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When committing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,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also abort uncommitted actions that are ‘Order’ed befor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181-6E05-4A6A-A13B-3DABBDA2D8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chedule equivalenc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368360" y="1706400"/>
            <a:ext cx="734400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quivalence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s, t 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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ordering is irrelevant!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ventual consistency reduces to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ame committed operations everywhe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l committed operations in every schedu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hedules are 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B2A-719F-4647-A352-357CE5405C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 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8000" y="1988640"/>
            <a:ext cx="7101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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action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it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i,k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chedul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Legal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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=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af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Liv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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k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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16A-4987-4B1F-A657-2EAE283254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Global safety invarian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68360" y="1706400"/>
            <a:ext cx="734400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ound</a:t>
            </a:r>
            <a:r>
              <a:rPr b="0" lang="en-GB" sz="6000" spc="-1" strike="noStrike">
                <a:solidFill>
                  <a:srgbClr val="2a5554"/>
                </a:solidFill>
                <a:latin typeface="Arial"/>
              </a:rPr>
              <a:t> [</a:t>
            </a:r>
            <a:r>
              <a:rPr b="0" lang="en-GB" sz="6000" spc="-1" strike="noStrike">
                <a:solidFill>
                  <a:srgbClr val="2a5554"/>
                </a:solidFill>
                <a:latin typeface="Symbol"/>
                <a:ea typeface="Symbol"/>
              </a:rPr>
              <a:t>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time, 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sites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(t)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6000" spc="-1" strike="noStrike">
                <a:solidFill>
                  <a:srgbClr val="2a5554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losed for MustHave </a:t>
            </a:r>
            <a:r>
              <a:rPr b="0" lang="en-GB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Non-conflicting: Acyclic in Order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ctions successfu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31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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,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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: a.preCondition (state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Very strong!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s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t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only if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won’t commit conflicting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t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t’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will succeed everywhere, anytim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711-EEBB-4974-94AF-F9FF2D77C1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Maintaining global invarian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368000" y="1872720"/>
            <a:ext cx="72248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ternative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on knowledge: deterministic abort rule [idem commit?]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WR 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Unilateral abort [idem commit?]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CVS, Holliday 2000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ingle primary site decid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Bayou, CV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nsus before decid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Deno, Holliday 2000-2002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F21-5C09-4D47-9DBE-D8F1365096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 with TWR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dependent objec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dependent writes (no MustHave nor Order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l sites take same decision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Given two writes to same object, abort the earli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Whether concurrent or no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Write stable when seen by all si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isjointness: committed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oundness: no MustHave (no transactions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332-762E-4118-AEF8-2880FC4F57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 in Bayou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atabase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isjoi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ndependent: no multi-DB transac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1 primary / databas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og constraints: transactions, time orde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isjointness: Only 1 site decides about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the primary for the database that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updat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oundness: whole transaction commits or abor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A96-F0F4-4B18-9ADC-E9164181928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Thèses encadré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8360" y="1652400"/>
            <a:ext cx="7344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Yek Loong Chong. U. de Cambridge, 2003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Nicolas Richer.  Paris 6, 2002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Fabrice le Fessant (co-encadrement). Polytechnique, 2001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Xavier Blondel.   CNAM, 2000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Aline Baggio. Paris 6, 199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Georges Brun-Cottan. Paris 6, 1998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Julien Maisonneuve, Paris 6, 1996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Paulo Ferreira. Paris 6, 1996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Hervé Soulard. Paris 6, 1995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David Plainfossé. Paris 6, 1994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Daniel Edelson. UC Santa Cruz, 1993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Michel Ruffin. Paris 6, 1992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Yvon Gourhant. Paris 6, 1991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Sabine Habert. Paris 6, 198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Mesaac Mounchili Makpangou. Paris 6, 198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99A-716E-46AE-8454-99B1EEFFD8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Holliday’s pre-commit protoco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68360" y="1787040"/>
            <a:ext cx="73440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og constraints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ulti-object trans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happens-before ord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ad transactions commit locall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ad-Write transactions: consensus to commi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vert locks to inten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re-commit, vot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it if quorum ‘yes’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bort if anti-quorum ‘no’ or conflict with committ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663-4EC5-4B27-901F-B4A75C7BD3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Trade-off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8000" y="1496880"/>
            <a:ext cx="77756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No perfect solutio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mmon knowledg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yntactic: fast, inflexib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borts, doesn’t comm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Partition + primar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ingle point of failu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no MustHave across partition boundari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ensu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mpossibility of consensus in asynchronous systems with failu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50E-D863-4DFD-9466-01325E30BC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808080"/>
                </a:solidFill>
                <a:latin typeface="Arial"/>
              </a:rPr>
              <a:t>4. Conclusion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Passage à l’échelle ?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éplication en écritur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C pessimiste = attend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C optimiste = spécul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Progrès malgré panne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Non transparen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Limité par le commi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mpromis possibles 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rtitionn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diminuer la granulari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limiter nombre d’écrivai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999-5C0C-42CC-B8F2-30FAD3323EC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Perspectiv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Importance grandissante du partag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Lecture et écritu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ommerce électroniq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Pertinence des techniqu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andataires spécifiques encapsulant l’état du protoco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ava, .Net : ramasse-miettes répart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Réplication: centres Web, B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Travail déconnec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360-9271-40BB-8FCC-A1C0B444B0F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1EF-1D4B-4D7E-BAF1-7814864636D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Publication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9568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Computing Surveys, en cours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ODC 2001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Livre Springer 2000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LDI 1998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ECOOP 1998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96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WMM 1995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WDAG 1995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385128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Livre IEEE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OSDI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ODC 1992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RDS 1991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Computing Systems 1989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SOSP 1989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86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B8E-C4EA-46FD-88E1-AECF19F43698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808080"/>
                </a:solidFill>
                <a:latin typeface="Arial"/>
              </a:rPr>
              <a:t>Le partage de l’information à grande échelle</a:t>
            </a:r>
            <a:endParaRPr b="0" lang="en-US" sz="4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mplexité des systèmes répartis : parallélisme, pannes, événement, lat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Objets: sémantique non prédéfini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ystèm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outils commu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aspects dynamiqu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ompromi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raiter les problèmes de fond, impact sur le long term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3D2-9891-4702-ABFE-D5AB9AA892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60428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Objets Fragmentés</a:t>
            </a:r>
            <a:br>
              <a:rPr sz="4200"/>
            </a:b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81-1990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41600" y="1761840"/>
            <a:ext cx="48020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tructuratio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ntrôle de la transpar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Mandatai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rogrammab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spécifique au clie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état du protoco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ystème SO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Voi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roxy We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in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ges Web dynamiqu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0480" y="2259000"/>
            <a:ext cx="1398600" cy="1573200"/>
          </a:xfrm>
          <a:prstGeom prst="rect">
            <a:avLst/>
          </a:prstGeom>
          <a:noFill/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41560" y="4846680"/>
            <a:ext cx="1192320" cy="1298520"/>
          </a:xfrm>
          <a:prstGeom prst="rect">
            <a:avLst/>
          </a:prstGeom>
          <a:noFill/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9880" y="2433600"/>
            <a:ext cx="511200" cy="49860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84640" y="5254560"/>
            <a:ext cx="511200" cy="498600"/>
          </a:xfrm>
          <a:prstGeom prst="ellipse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1680" y="3187800"/>
            <a:ext cx="511200" cy="498240"/>
          </a:xfrm>
          <a:prstGeom prst="ellipse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5"/>
            <a:endCxn id="118" idx="1"/>
          </p:cNvCxnSpPr>
          <p:nvPr/>
        </p:nvCxnSpPr>
        <p:spPr>
          <a:xfrm>
            <a:off x="1276200" y="2859120"/>
            <a:ext cx="270720" cy="40248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8" idx="5"/>
            <a:endCxn id="117" idx="1"/>
          </p:cNvCxnSpPr>
          <p:nvPr/>
        </p:nvCxnSpPr>
        <p:spPr>
          <a:xfrm>
            <a:off x="1907640" y="3613320"/>
            <a:ext cx="1451880" cy="1715040"/>
          </a:xfrm>
          <a:prstGeom prst="straightConnector1">
            <a:avLst/>
          </a:prstGeom>
          <a:ln w="38160">
            <a:solidFill>
              <a:srgbClr val="2a5554"/>
            </a:solidFill>
            <a:prstDash val="dash"/>
            <a:miter/>
            <a:headEnd len="med" type="oval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rot="2909400">
            <a:off x="856440" y="3960000"/>
            <a:ext cx="3643200" cy="1114560"/>
          </a:xfrm>
          <a:prstGeom prst="ellipse">
            <a:avLst/>
          </a:prstGeom>
          <a:gradFill rotWithShape="0">
            <a:gsLst>
              <a:gs pos="0">
                <a:srgbClr val="5f9759">
                  <a:alpha val="32156"/>
                </a:srgbClr>
              </a:gs>
              <a:gs pos="100000">
                <a:srgbClr val="689c62">
                  <a:alpha val="33333"/>
                </a:srgbClr>
              </a:gs>
            </a:gsLst>
            <a:lin ang="2490000"/>
          </a:gra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5B1-5FC1-49DE-B8D5-1227F11C4B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35 0.27244 L 3.05556E-006 -3.80204E-006 E">
                                      <p:cBhvr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Chaînes de Paires Souche-Scion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90—1999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7560" y="1988640"/>
            <a:ext cx="421956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Automatiser la gestion d’objets en réparti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éférences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M locaux + coordination </a:t>
            </a:r>
            <a:r>
              <a:rPr b="0" i="1" lang="fr-FR" sz="2800" spc="-1" strike="noStrike">
                <a:solidFill>
                  <a:srgbClr val="2a5554"/>
                </a:solidFill>
                <a:latin typeface="Arial"/>
              </a:rPr>
              <a:t>asynchro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implicité + efficacité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olérant les pannes détectabl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Dérivation formell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057400"/>
            <a:ext cx="1320840" cy="1308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1920" y="4165560"/>
            <a:ext cx="1485720" cy="1320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62240" y="1879560"/>
            <a:ext cx="1371600" cy="1295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7160" y="204480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00680" y="261612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5"/>
            <a:endCxn id="128" idx="1"/>
          </p:cNvCxnSpPr>
          <p:nvPr/>
        </p:nvCxnSpPr>
        <p:spPr>
          <a:xfrm>
            <a:off x="3704760" y="2282400"/>
            <a:ext cx="337320" cy="3754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grpSp>
        <p:nvGrpSpPr>
          <p:cNvPr id="130" name=""/>
          <p:cNvGrpSpPr/>
          <p:nvPr/>
        </p:nvGrpSpPr>
        <p:grpSpPr>
          <a:xfrm>
            <a:off x="3230280" y="2769840"/>
            <a:ext cx="486000" cy="340200"/>
            <a:chOff x="3230280" y="2769840"/>
            <a:chExt cx="486000" cy="340200"/>
          </a:xfrm>
        </p:grpSpPr>
        <p:sp>
          <p:nvSpPr>
            <p:cNvPr id="131" name=""/>
            <p:cNvSpPr/>
            <p:nvPr/>
          </p:nvSpPr>
          <p:spPr>
            <a:xfrm>
              <a:off x="3230640" y="2770200"/>
              <a:ext cx="485640" cy="339840"/>
            </a:xfrm>
            <a:custGeom>
              <a:avLst/>
              <a:gdLst/>
              <a:ahLst/>
              <a:rect l="l" t="t" r="r" b="b"/>
              <a:pathLst>
                <a:path w="680" h="472">
                  <a:moveTo>
                    <a:pt x="0" y="0"/>
                  </a:moveTo>
                  <a:lnTo>
                    <a:pt x="0" y="472"/>
                  </a:lnTo>
                  <a:lnTo>
                    <a:pt x="680" y="472"/>
                  </a:lnTo>
                  <a:lnTo>
                    <a:pt x="680" y="0"/>
                  </a:lnTo>
                  <a:lnTo>
                    <a:pt x="344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2a55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0"/>
              <a:endCxn id="131" idx="1"/>
            </p:cNvCxnSpPr>
            <p:nvPr/>
          </p:nvCxnSpPr>
          <p:spPr>
            <a:xfrm>
              <a:off x="3230280" y="2769840"/>
              <a:ext cx="486360" cy="1080"/>
            </a:xfrm>
            <a:prstGeom prst="straightConnector1">
              <a:avLst/>
            </a:prstGeom>
            <a:ln cap="sq" w="12600">
              <a:solidFill>
                <a:srgbClr val="2a5554"/>
              </a:solidFill>
              <a:miter/>
            </a:ln>
          </p:spPr>
        </p:cxnSp>
      </p:grpSp>
      <p:cxnSp>
        <p:nvCxnSpPr>
          <p:cNvPr id="133" name=""/>
          <p:cNvCxnSpPr>
            <a:stCxn id="131" idx="2"/>
            <a:endCxn id="134" idx="0"/>
          </p:cNvCxnSpPr>
          <p:nvPr/>
        </p:nvCxnSpPr>
        <p:spPr>
          <a:xfrm flipH="1" flipV="1">
            <a:off x="3241440" y="2648880"/>
            <a:ext cx="235440" cy="322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370160" y="2305080"/>
            <a:ext cx="409320" cy="371520"/>
          </a:xfrm>
          <a:custGeom>
            <a:avLst/>
            <a:gdLst>
              <a:gd name="textAreaLeft" fmla="*/ 0 w 409320"/>
              <a:gd name="textAreaRight" fmla="*/ 409680 w 4093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24" y="0"/>
                </a:lnTo>
                <a:lnTo>
                  <a:pt x="21600" y="10800"/>
                </a:lnTo>
                <a:lnTo>
                  <a:pt x="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1"/>
            <a:endCxn id="128" idx="2"/>
          </p:cNvCxnSpPr>
          <p:nvPr/>
        </p:nvCxnSpPr>
        <p:spPr>
          <a:xfrm>
            <a:off x="3105000" y="2464920"/>
            <a:ext cx="896400" cy="29124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881440" y="2278080"/>
            <a:ext cx="365040" cy="372960"/>
          </a:xfrm>
          <a:custGeom>
            <a:avLst/>
            <a:gdLst/>
            <a:ahLst/>
            <a:rect l="l" t="t" r="r" b="b"/>
            <a:pathLst>
              <a:path w="230" h="235">
                <a:moveTo>
                  <a:pt x="2" y="0"/>
                </a:moveTo>
                <a:lnTo>
                  <a:pt x="141" y="118"/>
                </a:lnTo>
                <a:lnTo>
                  <a:pt x="0" y="235"/>
                </a:lnTo>
                <a:lnTo>
                  <a:pt x="227" y="234"/>
                </a:lnTo>
                <a:lnTo>
                  <a:pt x="23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2a55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0"/>
            <a:endCxn id="134" idx="2"/>
          </p:cNvCxnSpPr>
          <p:nvPr/>
        </p:nvCxnSpPr>
        <p:spPr>
          <a:xfrm flipV="1">
            <a:off x="1779480" y="2464560"/>
            <a:ext cx="1326240" cy="2628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28680" y="219564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6"/>
            <a:endCxn id="135" idx="1"/>
          </p:cNvCxnSpPr>
          <p:nvPr/>
        </p:nvCxnSpPr>
        <p:spPr>
          <a:xfrm>
            <a:off x="607680" y="2335320"/>
            <a:ext cx="762840" cy="155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endCxn id="134" idx="3"/>
          </p:cNvCxnSpPr>
          <p:nvPr/>
        </p:nvCxnSpPr>
        <p:spPr>
          <a:xfrm flipV="1">
            <a:off x="798120" y="2464920"/>
            <a:ext cx="2307240" cy="5184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5" idx="2"/>
          </p:cNvCxnSpPr>
          <p:nvPr/>
        </p:nvCxnSpPr>
        <p:spPr>
          <a:xfrm flipV="1">
            <a:off x="1234800" y="2490120"/>
            <a:ext cx="135720" cy="9183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51560" y="3261240"/>
            <a:ext cx="365040" cy="373320"/>
          </a:xfrm>
          <a:custGeom>
            <a:avLst/>
            <a:gdLst/>
            <a:ahLst/>
            <a:rect l="l" t="t" r="r" b="b"/>
            <a:pathLst>
              <a:path w="230" h="235">
                <a:moveTo>
                  <a:pt x="2" y="0"/>
                </a:moveTo>
                <a:lnTo>
                  <a:pt x="141" y="118"/>
                </a:lnTo>
                <a:lnTo>
                  <a:pt x="0" y="235"/>
                </a:lnTo>
                <a:lnTo>
                  <a:pt x="227" y="234"/>
                </a:lnTo>
                <a:lnTo>
                  <a:pt x="23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2a55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1"/>
          </p:cNvCxnSpPr>
          <p:nvPr/>
        </p:nvCxnSpPr>
        <p:spPr>
          <a:xfrm>
            <a:off x="452520" y="3169800"/>
            <a:ext cx="597600" cy="9756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45" name=""/>
          <p:cNvGrpSpPr/>
          <p:nvPr/>
        </p:nvGrpSpPr>
        <p:grpSpPr>
          <a:xfrm>
            <a:off x="206280" y="2968200"/>
            <a:ext cx="486360" cy="340200"/>
            <a:chOff x="206280" y="2968200"/>
            <a:chExt cx="486360" cy="340200"/>
          </a:xfrm>
        </p:grpSpPr>
        <p:sp>
          <p:nvSpPr>
            <p:cNvPr id="144" name=""/>
            <p:cNvSpPr/>
            <p:nvPr/>
          </p:nvSpPr>
          <p:spPr>
            <a:xfrm>
              <a:off x="206280" y="2968560"/>
              <a:ext cx="486000" cy="339840"/>
            </a:xfrm>
            <a:custGeom>
              <a:avLst/>
              <a:gdLst/>
              <a:ahLst/>
              <a:rect l="l" t="t" r="r" b="b"/>
              <a:pathLst>
                <a:path w="680" h="472">
                  <a:moveTo>
                    <a:pt x="0" y="0"/>
                  </a:moveTo>
                  <a:lnTo>
                    <a:pt x="0" y="472"/>
                  </a:lnTo>
                  <a:lnTo>
                    <a:pt x="680" y="472"/>
                  </a:lnTo>
                  <a:lnTo>
                    <a:pt x="680" y="0"/>
                  </a:lnTo>
                  <a:lnTo>
                    <a:pt x="344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2a55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4" idx="0"/>
              <a:endCxn id="144" idx="1"/>
            </p:cNvCxnSpPr>
            <p:nvPr/>
          </p:nvCxnSpPr>
          <p:spPr>
            <a:xfrm>
              <a:off x="206280" y="2968200"/>
              <a:ext cx="486720" cy="1080"/>
            </a:xfrm>
            <a:prstGeom prst="straightConnector1">
              <a:avLst/>
            </a:prstGeom>
            <a:ln cap="sq" w="12600">
              <a:solidFill>
                <a:srgbClr val="2a5554"/>
              </a:solidFill>
              <a:miter/>
            </a:ln>
          </p:spPr>
        </p:cxnSp>
      </p:grpSp>
      <p:sp>
        <p:nvSpPr>
          <p:cNvPr id="147" name=""/>
          <p:cNvSpPr/>
          <p:nvPr/>
        </p:nvSpPr>
        <p:spPr>
          <a:xfrm rot="16200000">
            <a:off x="2201760" y="3943440"/>
            <a:ext cx="409680" cy="371520"/>
          </a:xfrm>
          <a:custGeom>
            <a:avLst/>
            <a:gdLst>
              <a:gd name="textAreaLeft" fmla="*/ 0 w 409680"/>
              <a:gd name="textAreaRight" fmla="*/ 410040 w 4096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24" y="0"/>
                </a:lnTo>
                <a:lnTo>
                  <a:pt x="21600" y="10800"/>
                </a:lnTo>
                <a:lnTo>
                  <a:pt x="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54320" y="506880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0"/>
            <a:endCxn id="142" idx="2"/>
          </p:cNvCxnSpPr>
          <p:nvPr/>
        </p:nvCxnSpPr>
        <p:spPr>
          <a:xfrm flipH="1" flipV="1">
            <a:off x="1420560" y="3631680"/>
            <a:ext cx="986400" cy="29304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7" idx="1"/>
            <a:endCxn id="134" idx="4"/>
          </p:cNvCxnSpPr>
          <p:nvPr/>
        </p:nvCxnSpPr>
        <p:spPr>
          <a:xfrm flipV="1">
            <a:off x="2406240" y="2650320"/>
            <a:ext cx="475560" cy="1274040"/>
          </a:xfrm>
          <a:prstGeom prst="straightConnector1">
            <a:avLst/>
          </a:prstGeom>
          <a:ln w="28440">
            <a:solidFill>
              <a:srgbClr val="2a5554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8" idx="0"/>
            <a:endCxn id="147" idx="2"/>
          </p:cNvCxnSpPr>
          <p:nvPr/>
        </p:nvCxnSpPr>
        <p:spPr>
          <a:xfrm flipV="1">
            <a:off x="2393640" y="4333680"/>
            <a:ext cx="13320" cy="73512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42" idx="3"/>
          </p:cNvCxnSpPr>
          <p:nvPr/>
        </p:nvCxnSpPr>
        <p:spPr>
          <a:xfrm flipH="1" flipV="1">
            <a:off x="1234800" y="3408120"/>
            <a:ext cx="527760" cy="166104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3"/>
            <a:endCxn id="134" idx="5"/>
          </p:cNvCxnSpPr>
          <p:nvPr/>
        </p:nvCxnSpPr>
        <p:spPr>
          <a:xfrm flipH="1" flipV="1" rot="5400000">
            <a:off x="2007000" y="3049560"/>
            <a:ext cx="1274040" cy="475560"/>
          </a:xfrm>
          <a:prstGeom prst="curvedConnector5">
            <a:avLst>
              <a:gd name="adj1" fmla="val 48728"/>
              <a:gd name="adj2" fmla="val 50000"/>
              <a:gd name="adj3" fmla="val 48728"/>
            </a:avLst>
          </a:prstGeom>
          <a:ln cap="sq" w="28440">
            <a:solidFill>
              <a:srgbClr val="5f975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84F-F38F-4438-BEF2-81A46D3225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87697E-006 L -0.29392 0.00208 E">
                                      <p:cBhvr>
                                        <p:cTn id="3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3876E-007 L 0.14323 0.28307 E">
                                      <p:cBhvr>
                                        <p:cTn id="77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RM asynchrone en mémoire répliquée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93—2000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97360" y="1988640"/>
            <a:ext cx="434664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calability </a:t>
            </a: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asynch.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Local GC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Distributed GC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ufficient safety rul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Union rule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lean propagation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omprehensive scanning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reate before delete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ausal delivery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PerDi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86000" y="3529080"/>
            <a:ext cx="139680" cy="172224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6840" y="3519360"/>
            <a:ext cx="914400" cy="685800"/>
          </a:xfrm>
          <a:prstGeom prst="rect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08520" y="3938760"/>
            <a:ext cx="215640" cy="21564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21120" y="3621240"/>
            <a:ext cx="216000" cy="21564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3160" y="3735360"/>
            <a:ext cx="216000" cy="21600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641760" y="3754440"/>
            <a:ext cx="266760" cy="6336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41760" y="3900600"/>
            <a:ext cx="279360" cy="13968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5040" y="3875040"/>
            <a:ext cx="419040" cy="10152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071600" y="4194000"/>
            <a:ext cx="165240" cy="171792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4520" y="3532320"/>
            <a:ext cx="592200" cy="176364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9480" y="5227560"/>
            <a:ext cx="90180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19360" y="5646600"/>
            <a:ext cx="20484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9840" y="5342040"/>
            <a:ext cx="2016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4400" y="5494320"/>
            <a:ext cx="291960" cy="13968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32040" y="5227560"/>
            <a:ext cx="90144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03360" y="5646600"/>
            <a:ext cx="20304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15960" y="532908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08000" y="5443560"/>
            <a:ext cx="2034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36600" y="5455800"/>
            <a:ext cx="254160" cy="63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600" y="5608800"/>
            <a:ext cx="266760" cy="126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9880" y="5227560"/>
            <a:ext cx="90144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1200" y="564660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63800" y="532908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5840" y="5443560"/>
            <a:ext cx="2034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84440" y="5455800"/>
            <a:ext cx="254160" cy="63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84440" y="5608800"/>
            <a:ext cx="266760" cy="126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11600" y="5583240"/>
            <a:ext cx="419040" cy="889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4871880"/>
            <a:ext cx="0" cy="55908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5280" y="5316480"/>
            <a:ext cx="330120" cy="20340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731960" y="5773320"/>
            <a:ext cx="876240" cy="1260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44560" y="5430960"/>
            <a:ext cx="343080" cy="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9520" y="3282840"/>
            <a:ext cx="2343240" cy="1074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7040" y="3281400"/>
            <a:ext cx="1512720" cy="10634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36760" y="3532320"/>
            <a:ext cx="912600" cy="685800"/>
          </a:xfrm>
          <a:prstGeom prst="rect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6640" y="395136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64644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39880" y="3798720"/>
            <a:ext cx="304920" cy="15264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7520" y="3532320"/>
            <a:ext cx="914400" cy="685800"/>
          </a:xfrm>
          <a:prstGeom prst="rect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395136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1800" y="3633840"/>
            <a:ext cx="21564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3840" y="3747960"/>
            <a:ext cx="2142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2440" y="3766680"/>
            <a:ext cx="266400" cy="6372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440" y="3913200"/>
            <a:ext cx="279360" cy="13968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7520" y="4230720"/>
            <a:ext cx="623880" cy="169236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760" y="3621240"/>
            <a:ext cx="343080" cy="21564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8200" y="3164040"/>
            <a:ext cx="0" cy="57132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123920" y="4084200"/>
            <a:ext cx="876240" cy="1116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30400" y="3741840"/>
            <a:ext cx="355680" cy="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73080" y="3701880"/>
            <a:ext cx="57240" cy="3081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84160" y="3760920"/>
            <a:ext cx="236520" cy="1918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880" y="3805200"/>
            <a:ext cx="57240" cy="3081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88600" y="3863880"/>
            <a:ext cx="236520" cy="19224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AB9-2DBE-4373-8536-337E352AAE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5:05:42Z</dcterms:created>
  <dc:creator>shapiro</dc:creator>
  <dc:description/>
  <dc:language>en-US</dc:language>
  <cp:lastModifiedBy>shapiro</cp:lastModifiedBy>
  <dcterms:modified xsi:type="dcterms:W3CDTF">2002-12-12T17:11:28Z</dcterms:modified>
  <cp:revision>99</cp:revision>
  <dc:subject/>
  <dc:title>Replication: optimistic approach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