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84ECB5F-EEC5-4A04-B7D8-18BCC188C9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2BDD218-56AF-4198-97F2-BAD9D56D03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 multi-log, replay from initi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combination, ordering, may succeed or fail (conflic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: honour user intents, don’t f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20C04B2D-5BB5-4F69-968C-8AD6E166B2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727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sider some action 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ck precondition on initial value (otherwise abort comput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ute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ify postcondition relating last value to next value (otherwise e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tall re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concurrent action g may be incorrect because the last value is not the initial value, postcondition violated.  Special c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precondition independent from f’s postcondition and vice-ver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ependence: g’s read set and write sets disjoint from f’s write set [and vice-versa?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ution: abort concurrent g, replay sequentially.  However this might not work because now the precondition is violated. This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-before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causal ordering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conservative approximation of caus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oncurrent actions are not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ependent actions may be causally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it causal dependence, more precise than syntactic approx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er repertoire than the syntactic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ress causal dependency, 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: also express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93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will see later, same primitives express conflicts between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intent constraint connects two particular actions in a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s characterise user i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nt constraint is a static constraint i.e. evaluated without reference to the shared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mantic constraint connects two method calls, across all possible l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es semantics of shared object: method of shared object, written by object progr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constraint = Bayou dependency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many dependency checks can be made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BFBEF2D0-A733-40F1-9C58-7328BABB8B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ed data, initially state 0.  Users update, bring to states 1 and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log update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nci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ll back to state 0, combine updates, final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 all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binations differ in set, order of actions; but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ivalence cla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it “best”.  More precisely: equivalence class of best schedules yielding identical final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binations fail (violate invaria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concept: expose invariants to sys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ual split of “invariants” into “static constraints” and “dynami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ise: ignore temporal dependency/independence, only consider true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 constraint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4222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constra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alise: generate schedules that verify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t scheduling and exec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running all schedules in parallel choose one (or a small number) &amp; ru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dynamic constraint during execution; if fails, roll back and try a different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312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exhaustive search, use 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300997F3-1909-4752-936C-C03E33D6BB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153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rt justifies our intuition that search is superior to any syntactic (i.e. predefined) order, e.g. timestamp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application (calendar) – later I will present the details of the experiments – now just note that syntactic ordering (in these experiments) is not able to schedule about 13% of the actions.  Instead our search algorithm is able to schedule almost all possible actions – even on inputs of non-trivial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ynthetic benchmark data with alternatives but no true conflicts; optimal = all action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Single Log” line represents throwing away every action in one log and keeping the other, i.e.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or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olicy.  So think of the Single Log (purple) as your base line.  The “Concatenate” line (green) is representative of any syntactic algorithm.  It is about 78% of the way between Single Log and Optimal, i.e. it is 22% worse than Optimal. The IceCube search (red crosses) is indistinguishable from Optim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searching all possible schedules is im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question posed here: can peer-to-peer be applied to commitm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is related to log constra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presence of log constraints, soundness makes the convergence problem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 well for file systems (no log constrai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 sound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itted 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ness = honouring static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valence: two sound schedules with the same actions are equivalent – even if the actions are ordered differen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big improvement! comparing two schedules is a lot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schedules are sound, they are ordered consistently with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; actions that are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ust be in same order in both schedules; those that are not related by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mmute so the order doesn’t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sjointness is what makes convergence h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ists even when there are no log constra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objects == no log constraints; soundness is triv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0740673A-1C0F-4E88-B341-D2498800C9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00000" y="762120"/>
            <a:ext cx="4980240" cy="37353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726080"/>
            <a:ext cx="4951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DFE-6121-4A55-A62F-01CB88C33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10A-6D22-4A70-9CBB-28785F5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2AF-2F11-45C3-910A-98B2A89F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F5C-ED73-46D9-8A1C-8D243513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1741-2179-4F35-A4B2-FC6A3114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B1E-5DE9-4D34-9E0F-F0C40421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44BF-8B25-4F20-8AFA-BA3CA169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FFF4-B5EC-449C-B75C-C7471838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5E18-E8CD-4353-9F2E-7836A0DA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D0A5-1A07-4DF2-BE7A-DDCFF7AA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FE29-DF1A-42AA-8CD0-7F5E497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115-2727-4F04-9166-AF0294FC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FF6-FC49-4284-97B8-E43F5047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22E9-4238-406F-A911-15E9BD7D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4B41-47AF-4683-AA3D-563BE63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FB9D-7069-4765-B042-3DC89867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5128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34560" y="198864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83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5128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34560" y="4264200"/>
            <a:ext cx="23644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83A4-C197-4BEF-8574-27FF0CC0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BBA-E223-4741-8818-26DADEF8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182-52D3-4823-89E3-FF706D10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341-8FE2-41A2-842F-61801D89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8360" y="279000"/>
            <a:ext cx="734400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E10-C4A4-4AF8-A1DC-2B594C6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932C-B240-4C41-9B61-BB3AC80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1800" y="426420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FA0-63A6-4486-96D0-F40FB959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800" y="1988640"/>
            <a:ext cx="35838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8360" y="4264200"/>
            <a:ext cx="73440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73A-03A7-4D2E-B9B4-3F0D3D6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2a5554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8000" y="6453360"/>
            <a:ext cx="27147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05440" y="6459120"/>
            <a:ext cx="39924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fa19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0840" y="6453360"/>
            <a:ext cx="55116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fa19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33A4-241D-4CC9-96C8-427F647ECB46}" type="slidenum">
              <a:rPr b="0" lang="en-US" sz="1000" spc="-1" strike="noStrike">
                <a:solidFill>
                  <a:srgbClr val="4fa19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187280" y="439200"/>
            <a:ext cx="0" cy="87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838080"/>
            <a:ext cx="174600" cy="19872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23800" y="838080"/>
            <a:ext cx="174600" cy="19872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68320" y="838080"/>
            <a:ext cx="174600" cy="19872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975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975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E14-320C-41C8-8961-EED3381FF39A}" type="slidenum">
              <a:rPr b="0" lang="en-US" sz="1000" spc="-1" strike="noStrike">
                <a:solidFill>
                  <a:srgbClr val="5f97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1631880"/>
            <a:ext cx="347760" cy="347760"/>
          </a:xfrm>
          <a:prstGeom prst="ellipse">
            <a:avLst/>
          </a:prstGeom>
          <a:solidFill>
            <a:srgbClr val="2a55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1633680"/>
            <a:ext cx="349200" cy="347400"/>
          </a:xfrm>
          <a:prstGeom prst="ellipse">
            <a:avLst/>
          </a:prstGeom>
          <a:solidFill>
            <a:srgbClr val="4fa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1633680"/>
            <a:ext cx="347760" cy="347400"/>
          </a:xfrm>
          <a:prstGeom prst="ellipse">
            <a:avLst/>
          </a:prstGeom>
          <a:solidFill>
            <a:srgbClr val="5f97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914400" algn="ctr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3" marL="13716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4" marL="1828800" algn="ctr">
              <a:lnSpc>
                <a:spcPct val="70000"/>
              </a:lnSpc>
              <a:spcBef>
                <a:spcPts val="601"/>
              </a:spcBef>
              <a:buClr>
                <a:srgbClr val="5f975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2a55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75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6541920" cy="30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808080"/>
                </a:solidFill>
                <a:latin typeface="Arial"/>
              </a:rPr>
              <a:t>Partage d’information à grande échelle</a:t>
            </a:r>
            <a:endParaRPr b="0" lang="en-US" sz="6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158560" y="4597200"/>
            <a:ext cx="69850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icrosoft Sans Serif"/>
              </a:rPr>
              <a:t>Marc Shapiro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5373720"/>
            <a:ext cx="334836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11640" y="69228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6119640"/>
            <a:ext cx="698508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Cambridge Distributed Systems</a:t>
            </a:r>
            <a:r>
              <a:rPr b="0" lang="fr-FR" sz="2400" spc="-1" strike="noStrike">
                <a:solidFill>
                  <a:srgbClr val="000000"/>
                </a:solidFill>
                <a:latin typeface="Microsoft Sans Serif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icrosoft Sans Serif"/>
              </a:rPr>
              <a:t>Group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éplication optimist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2001+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1766880"/>
            <a:ext cx="7344000" cy="45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artage en écriture décentralis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ceCube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teur général de réconcili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ournalisation d’opér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amétré par la sémant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hérence à ter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odèle : opérations + contrain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ûreté + vivac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invariant globa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écrire et comprendre les solu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ès prélimin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7A2-7215-4434-981B-277755FA77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2. Réplication optimiste et IceCube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replication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8360" y="1628640"/>
            <a:ext cx="6696000" cy="47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Replicas 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f shared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on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i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Without synchronisation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eer-to-peer read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update!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pplica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igh latency network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connected opera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operative wor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roves availability &amp; performa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Consistency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a posteriori, offli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 independent upda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96D-D9D0-4523-9689-D8DCDD39A9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cooperative engineering with CV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68360" y="2058480"/>
            <a:ext cx="734400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VS: developing shared cod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Local, disconnected replica: no interfe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Conflic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Write same file =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syntactic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verlap in file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dit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Doesn’t compile, test = violates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  <a:ea typeface="Arial"/>
              </a:rPr>
              <a:t>application semantic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Both sides of a conflict are exclud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  <a:ea typeface="Arial"/>
              </a:rPr>
              <a:t>Manual repa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4F0-9FEE-45E8-96BF-1D69F86AB8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ample: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General-purpose databas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ny replica can update, log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ction = { dependency check, operation, merge-procedure }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timistic replicat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exchange log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{ roll-back, replay }*;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-check: semantic check for conflict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erge-proc: semantic repai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5CC-F249-43B9-A252-A9445BF811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4"/>
            <a:endCxn id="220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221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eration-based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4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059280" y="2206800"/>
            <a:ext cx="360360" cy="4032000"/>
            <a:chOff x="3059280" y="2206800"/>
            <a:chExt cx="360360" cy="4032000"/>
          </a:xfrm>
        </p:grpSpPr>
        <p:sp>
          <p:nvSpPr>
            <p:cNvPr id="220" name=""/>
            <p:cNvSpPr/>
            <p:nvPr/>
          </p:nvSpPr>
          <p:spPr>
            <a:xfrm>
              <a:off x="3059280" y="22068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59280" y="58784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228" name=""/>
          <p:cNvCxnSpPr>
            <a:stCxn id="225" idx="4"/>
            <a:endCxn id="227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229" name=""/>
          <p:cNvGrpSpPr/>
          <p:nvPr/>
        </p:nvGrpSpPr>
        <p:grpSpPr>
          <a:xfrm>
            <a:off x="1735200" y="2306520"/>
            <a:ext cx="144360" cy="3816360"/>
            <a:chOff x="1735200" y="2306520"/>
            <a:chExt cx="144360" cy="3816360"/>
          </a:xfrm>
        </p:grpSpPr>
        <p:sp>
          <p:nvSpPr>
            <p:cNvPr id="230" name=""/>
            <p:cNvSpPr/>
            <p:nvPr/>
          </p:nvSpPr>
          <p:spPr>
            <a:xfrm>
              <a:off x="173520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3520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33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e1f33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859280" y="3833640"/>
            <a:ext cx="3242160" cy="998640"/>
            <a:chOff x="4859280" y="3833640"/>
            <a:chExt cx="3242160" cy="998640"/>
          </a:xfrm>
        </p:grpSpPr>
        <p:cxnSp>
          <p:nvCxnSpPr>
            <p:cNvPr id="235" name=""/>
            <p:cNvCxnSpPr>
              <a:stCxn id="236" idx="4"/>
              <a:endCxn id="237" idx="2"/>
            </p:cNvCxnSpPr>
            <p:nvPr/>
          </p:nvCxnSpPr>
          <p:spPr>
            <a:xfrm>
              <a:off x="5219640" y="465264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39" name=""/>
            <p:cNvCxnSpPr>
              <a:stCxn id="238" idx="4"/>
              <a:endCxn id="240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</p:grpSp>
      <p:sp>
        <p:nvSpPr>
          <p:cNvPr id="241" name=""/>
          <p:cNvSpPr/>
          <p:nvPr/>
        </p:nvSpPr>
        <p:spPr>
          <a:xfrm>
            <a:off x="3755880" y="342756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101080" y="3833640"/>
            <a:ext cx="360360" cy="998640"/>
            <a:chOff x="8101080" y="3833640"/>
            <a:chExt cx="360360" cy="998640"/>
          </a:xfrm>
        </p:grpSpPr>
        <p:sp>
          <p:nvSpPr>
            <p:cNvPr id="237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2a555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472000" y="39337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796000" y="3933720"/>
            <a:ext cx="144360" cy="782640"/>
            <a:chOff x="5796000" y="3933720"/>
            <a:chExt cx="144360" cy="782640"/>
          </a:xfrm>
        </p:grpSpPr>
        <p:sp>
          <p:nvSpPr>
            <p:cNvPr id="245" name=""/>
            <p:cNvSpPr/>
            <p:nvPr/>
          </p:nvSpPr>
          <p:spPr>
            <a:xfrm>
              <a:off x="579600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600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119640" y="3933720"/>
            <a:ext cx="144720" cy="782640"/>
            <a:chOff x="6119640" y="3933720"/>
            <a:chExt cx="144720" cy="782640"/>
          </a:xfrm>
        </p:grpSpPr>
        <p:sp>
          <p:nvSpPr>
            <p:cNvPr id="248" name=""/>
            <p:cNvSpPr/>
            <p:nvPr/>
          </p:nvSpPr>
          <p:spPr>
            <a:xfrm>
              <a:off x="6119640" y="4572000"/>
              <a:ext cx="144720" cy="14436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19640" y="3933720"/>
              <a:ext cx="144720" cy="14472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443640" y="39337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091280" y="3933720"/>
            <a:ext cx="144720" cy="782640"/>
            <a:chOff x="7091280" y="3933720"/>
            <a:chExt cx="144720" cy="782640"/>
          </a:xfrm>
        </p:grpSpPr>
        <p:sp>
          <p:nvSpPr>
            <p:cNvPr id="252" name=""/>
            <p:cNvSpPr/>
            <p:nvPr/>
          </p:nvSpPr>
          <p:spPr>
            <a:xfrm>
              <a:off x="7091280" y="4572000"/>
              <a:ext cx="14472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1280" y="3933720"/>
              <a:ext cx="14472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415280" y="3933720"/>
            <a:ext cx="144360" cy="782640"/>
            <a:chOff x="7415280" y="3933720"/>
            <a:chExt cx="144360" cy="782640"/>
          </a:xfrm>
        </p:grpSpPr>
        <p:sp>
          <p:nvSpPr>
            <p:cNvPr id="255" name=""/>
            <p:cNvSpPr/>
            <p:nvPr/>
          </p:nvSpPr>
          <p:spPr>
            <a:xfrm>
              <a:off x="7415280" y="457200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15280" y="39337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738920" y="39337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50028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987640" y="2133720"/>
            <a:ext cx="539280" cy="4246200"/>
            <a:chOff x="2987640" y="2133720"/>
            <a:chExt cx="539280" cy="4246200"/>
          </a:xfrm>
        </p:grpSpPr>
        <p:grpSp>
          <p:nvGrpSpPr>
            <p:cNvPr id="260" name=""/>
            <p:cNvGrpSpPr/>
            <p:nvPr/>
          </p:nvGrpSpPr>
          <p:grpSpPr>
            <a:xfrm>
              <a:off x="2987640" y="5805360"/>
              <a:ext cx="539280" cy="574560"/>
              <a:chOff x="2987640" y="5805360"/>
              <a:chExt cx="539280" cy="574560"/>
            </a:xfrm>
          </p:grpSpPr>
          <p:sp>
            <p:nvSpPr>
              <p:cNvPr id="261" name=""/>
              <p:cNvSpPr/>
              <p:nvPr/>
            </p:nvSpPr>
            <p:spPr>
              <a:xfrm>
                <a:off x="2987640" y="580536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3024000" y="580536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2987640" y="2133720"/>
              <a:ext cx="539280" cy="574560"/>
              <a:chOff x="2987640" y="2133720"/>
              <a:chExt cx="539280" cy="574560"/>
            </a:xfrm>
          </p:grpSpPr>
          <p:sp>
            <p:nvSpPr>
              <p:cNvPr id="264" name=""/>
              <p:cNvSpPr/>
              <p:nvPr/>
            </p:nvSpPr>
            <p:spPr>
              <a:xfrm>
                <a:off x="2987640" y="2133720"/>
                <a:ext cx="468360" cy="57456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024000" y="2133720"/>
                <a:ext cx="502920" cy="539640"/>
              </a:xfrm>
              <a:prstGeom prst="line">
                <a:avLst/>
              </a:prstGeom>
              <a:ln cap="sq"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a555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2195640" y="2781360"/>
            <a:ext cx="2232000" cy="100800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195640" y="4652640"/>
            <a:ext cx="2232000" cy="1081080"/>
          </a:xfrm>
          <a:prstGeom prst="line">
            <a:avLst/>
          </a:prstGeom>
          <a:ln w="9360">
            <a:solidFill>
              <a:srgbClr val="2a555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55960" y="2306520"/>
            <a:ext cx="144360" cy="3816360"/>
            <a:chOff x="2055960" y="2306520"/>
            <a:chExt cx="144360" cy="3816360"/>
          </a:xfrm>
        </p:grpSpPr>
        <p:sp>
          <p:nvSpPr>
            <p:cNvPr id="269" name=""/>
            <p:cNvSpPr/>
            <p:nvPr/>
          </p:nvSpPr>
          <p:spPr>
            <a:xfrm>
              <a:off x="20559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559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78160" y="2306520"/>
            <a:ext cx="144360" cy="3816360"/>
            <a:chOff x="2378160" y="2306520"/>
            <a:chExt cx="144360" cy="3816360"/>
          </a:xfrm>
        </p:grpSpPr>
        <p:sp>
          <p:nvSpPr>
            <p:cNvPr id="272" name=""/>
            <p:cNvSpPr/>
            <p:nvPr/>
          </p:nvSpPr>
          <p:spPr>
            <a:xfrm>
              <a:off x="23781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781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700360" y="2306520"/>
            <a:ext cx="144360" cy="3816360"/>
            <a:chOff x="2700360" y="2306520"/>
            <a:chExt cx="144360" cy="3816360"/>
          </a:xfrm>
        </p:grpSpPr>
        <p:sp>
          <p:nvSpPr>
            <p:cNvPr id="275" name=""/>
            <p:cNvSpPr/>
            <p:nvPr/>
          </p:nvSpPr>
          <p:spPr>
            <a:xfrm>
              <a:off x="2700360" y="2306520"/>
              <a:ext cx="144360" cy="1447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00360" y="5978520"/>
              <a:ext cx="144360" cy="144360"/>
            </a:xfrm>
            <a:prstGeom prst="ellipse">
              <a:avLst/>
            </a:prstGeom>
            <a:solidFill>
              <a:srgbClr val="e1f335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767640" y="4572000"/>
            <a:ext cx="14436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4160" y="508176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554"/>
                </a:solidFill>
                <a:latin typeface="Arial"/>
              </a:rPr>
              <a:t>commitment</a:t>
            </a: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B29C-1B80-4CDE-B548-8B42DC1DE0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547640" y="162864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97200"/>
            <a:ext cx="7201080" cy="0"/>
          </a:xfrm>
          <a:prstGeom prst="line">
            <a:avLst/>
          </a:prstGeom>
          <a:ln w="12600">
            <a:solidFill>
              <a:srgbClr val="2a555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xecution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8000" y="3995280"/>
            <a:ext cx="7775640" cy="23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peration = code + pre/post-condi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must satisf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Violation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conflic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But pre/post-conditions often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ima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567520" y="1539720"/>
            <a:ext cx="2722680" cy="858960"/>
            <a:chOff x="2567520" y="1539720"/>
            <a:chExt cx="2722680" cy="858960"/>
          </a:xfrm>
        </p:grpSpPr>
        <p:sp>
          <p:nvSpPr>
            <p:cNvPr id="284" name=""/>
            <p:cNvSpPr/>
            <p:nvPr/>
          </p:nvSpPr>
          <p:spPr>
            <a:xfrm>
              <a:off x="2921040" y="161604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7520" y="17002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0400" y="1700280"/>
              <a:ext cx="12798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f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>
              <a:stCxn id="284" idx="0"/>
              <a:endCxn id="285" idx="0"/>
            </p:cNvCxnSpPr>
            <p:nvPr/>
          </p:nvCxnSpPr>
          <p:spPr>
            <a:xfrm>
              <a:off x="2921040" y="1539720"/>
              <a:ext cx="15120" cy="16128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  <p:cxnSp>
          <p:nvCxnSpPr>
            <p:cNvPr id="288" name=""/>
            <p:cNvCxnSpPr>
              <a:stCxn id="284" idx="1"/>
              <a:endCxn id="286" idx="0"/>
            </p:cNvCxnSpPr>
            <p:nvPr/>
          </p:nvCxnSpPr>
          <p:spPr>
            <a:xfrm>
              <a:off x="4649760" y="1692360"/>
              <a:ext cx="2160" cy="8640"/>
            </a:xfrm>
            <a:prstGeom prst="straightConnector1">
              <a:avLst/>
            </a:prstGeom>
            <a:ln w="12600">
              <a:solidFill>
                <a:srgbClr val="4fa19f"/>
              </a:solidFill>
              <a:miter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007160" y="2784600"/>
            <a:ext cx="2774160" cy="782280"/>
            <a:chOff x="4007160" y="2784600"/>
            <a:chExt cx="2774160" cy="782280"/>
          </a:xfrm>
        </p:grpSpPr>
        <p:sp>
          <p:nvSpPr>
            <p:cNvPr id="290" name=""/>
            <p:cNvSpPr/>
            <p:nvPr/>
          </p:nvSpPr>
          <p:spPr>
            <a:xfrm>
              <a:off x="4007160" y="286848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61040" y="278460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99640" y="2868480"/>
              <a:ext cx="1381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’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0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167880" y="1633680"/>
            <a:ext cx="2739600" cy="782280"/>
            <a:chOff x="6167880" y="1633680"/>
            <a:chExt cx="2739600" cy="782280"/>
          </a:xfrm>
        </p:grpSpPr>
        <p:sp>
          <p:nvSpPr>
            <p:cNvPr id="294" name=""/>
            <p:cNvSpPr/>
            <p:nvPr/>
          </p:nvSpPr>
          <p:spPr>
            <a:xfrm>
              <a:off x="6521400" y="1633680"/>
              <a:ext cx="1728720" cy="0"/>
            </a:xfrm>
            <a:prstGeom prst="line">
              <a:avLst/>
            </a:prstGeom>
            <a:ln w="152280">
              <a:solidFill>
                <a:srgbClr val="4fa1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67880" y="1717560"/>
              <a:ext cx="735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re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92760" y="1717560"/>
              <a:ext cx="13147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post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,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893880"/>
                  <a:tab algn="l" pos="1787400"/>
                  <a:tab algn="l" pos="2681280"/>
                  <a:tab algn="l" pos="3575160"/>
                  <a:tab algn="l" pos="4468680"/>
                  <a:tab algn="l" pos="5362560"/>
                  <a:tab algn="l" pos="6256440"/>
                  <a:tab algn="l" pos="7149960"/>
                  <a:tab algn="l" pos="8043840"/>
                  <a:tab algn="l" pos="8937720"/>
                  <a:tab algn="l" pos="9831240"/>
                  <a:tab algn="l" pos="1072512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:= g(x</a:t>
              </a:r>
              <a:r>
                <a:rPr b="0" lang="en-US" sz="1600" spc="-1" strike="noStrike" baseline="-25000">
                  <a:solidFill>
                    <a:srgbClr val="2a5554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2a5554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470200" y="2924280"/>
            <a:ext cx="1222200" cy="647640"/>
            <a:chOff x="5470200" y="2924280"/>
            <a:chExt cx="1222200" cy="647640"/>
          </a:xfrm>
        </p:grpSpPr>
        <p:sp>
          <p:nvSpPr>
            <p:cNvPr id="298" name=""/>
            <p:cNvSpPr/>
            <p:nvPr/>
          </p:nvSpPr>
          <p:spPr>
            <a:xfrm flipH="1">
              <a:off x="5541480" y="2924280"/>
              <a:ext cx="107964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5470200" y="2995200"/>
              <a:ext cx="1222200" cy="505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945040" y="1628640"/>
            <a:ext cx="1222560" cy="647640"/>
            <a:chOff x="5945040" y="1628640"/>
            <a:chExt cx="1222560" cy="647640"/>
          </a:xfrm>
        </p:grpSpPr>
        <p:sp>
          <p:nvSpPr>
            <p:cNvPr id="301" name=""/>
            <p:cNvSpPr/>
            <p:nvPr/>
          </p:nvSpPr>
          <p:spPr>
            <a:xfrm flipH="1">
              <a:off x="6016680" y="1628640"/>
              <a:ext cx="107928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5945040" y="1699920"/>
              <a:ext cx="1222560" cy="504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56D-91A0-4D3F-94D9-56F42DB505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appens-befor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25360" y="1601640"/>
            <a:ext cx="531828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True constraints unknow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preced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in proces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sends,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receiv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(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||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4fa19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||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does not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migh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ause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al order, consistent with causal depend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hedule consistent with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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8" idx="5"/>
            <a:endCxn id="311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1" name=""/>
          <p:cNvCxnSpPr>
            <a:stCxn id="313" idx="5"/>
            <a:endCxn id="319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22" name=""/>
          <p:cNvCxnSpPr>
            <a:stCxn id="317" idx="7"/>
            <a:endCxn id="312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sp>
        <p:nvSpPr>
          <p:cNvPr id="323" name=""/>
          <p:cNvSpPr/>
          <p:nvPr/>
        </p:nvSpPr>
        <p:spPr>
          <a:xfrm>
            <a:off x="612720" y="443700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792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5252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040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2104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43160" y="437976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87760" y="437976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465280" y="437976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74640" y="437976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9712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0988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7976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DCC-44D7-40F2-B588-EC18778490C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58 -0.35069 L 1.11111E-006 -3.7037E-007 E">
                                      <p:cBhvr>
                                        <p:cTn id="233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722 -0.27083 L 1.94444E-006 -4.07407E-006 E">
                                      <p:cBhvr>
                                        <p:cTn id="236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2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8872 -0.26944 L -3.61111E-006 -4.07407E-006 E">
                                      <p:cBhvr>
                                        <p:cTn id="239" dur="1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4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6302 -0.34791 L 8.33333E-007 7.40741E-006 E">
                                      <p:cBhvr>
                                        <p:cTn id="242" dur="1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6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269 -0.18449 L 0.00018 -0.00046 E">
                                      <p:cBhvr>
                                        <p:cTn id="245" dur="1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8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1493 -0.18518 L 0.00035 0.00093 E">
                                      <p:cBhvr>
                                        <p:cTn id="248" dur="1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5556 -0.34768 L -0.00017 0.00093 E">
                                      <p:cBhvr>
                                        <p:cTn id="251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92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3178 -0.26921 L 5E-006 0.00093 E">
                                      <p:cBhvr>
                                        <p:cTn id="254" dur="1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56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7309 -0.26921 L -0.00035 0.00024 E">
                                      <p:cBhvr>
                                        <p:cTn id="257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9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4826 -0.34907 L 0.00017 0.00024 E">
                                      <p:cBhvr>
                                        <p:cTn id="260" dur="1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2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4271 -0.18611 L -0.00017 0.00024 E">
                                      <p:cBhvr>
                                        <p:cTn id="263" dur="1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52 -0.18611 L -0.00052 0.00024 E">
                                      <p:cBhvr>
                                        <p:cTn id="266" dur="1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87280" y="206208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187280" y="2606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87280" y="3182760"/>
            <a:ext cx="2232360" cy="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yntactic vs. semantic mechanism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51280" y="1989000"/>
            <a:ext cx="529272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cala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concurrency dete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very 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Vector timestamp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tect concurr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rvative approx. of causa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explicit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3200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3212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212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32240" y="198900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32240" y="25351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198900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25351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212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32240" y="311148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2000" y="3111480"/>
            <a:ext cx="14472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1" idx="5"/>
            <a:endCxn id="344" idx="1"/>
          </p:cNvCxnSpPr>
          <p:nvPr/>
        </p:nvCxnSpPr>
        <p:spPr>
          <a:xfrm>
            <a:off x="1455840" y="2112480"/>
            <a:ext cx="497520" cy="443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4" name=""/>
          <p:cNvCxnSpPr>
            <a:stCxn id="346" idx="5"/>
            <a:endCxn id="352" idx="1"/>
          </p:cNvCxnSpPr>
          <p:nvPr/>
        </p:nvCxnSpPr>
        <p:spPr>
          <a:xfrm>
            <a:off x="2655360" y="2658960"/>
            <a:ext cx="497880" cy="4737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5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</p:cxnSp>
      <p:cxnSp>
        <p:nvCxnSpPr>
          <p:cNvPr id="356" name=""/>
          <p:cNvCxnSpPr>
            <a:stCxn id="341" idx="6"/>
            <a:endCxn id="343" idx="2"/>
          </p:cNvCxnSpPr>
          <p:nvPr/>
        </p:nvCxnSpPr>
        <p:spPr>
          <a:xfrm>
            <a:off x="1476360" y="206172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7" name=""/>
          <p:cNvCxnSpPr>
            <a:stCxn id="342" idx="6"/>
            <a:endCxn id="352" idx="1"/>
          </p:cNvCxnSpPr>
          <p:nvPr/>
        </p:nvCxnSpPr>
        <p:spPr>
          <a:xfrm>
            <a:off x="1476000" y="2607840"/>
            <a:ext cx="1677240" cy="52416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1" idx="5"/>
            <a:endCxn id="346" idx="2"/>
          </p:cNvCxnSpPr>
          <p:nvPr/>
        </p:nvCxnSpPr>
        <p:spPr>
          <a:xfrm>
            <a:off x="1455840" y="2112840"/>
            <a:ext cx="1077120" cy="496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6" idx="6"/>
            <a:endCxn id="348" idx="2"/>
          </p:cNvCxnSpPr>
          <p:nvPr/>
        </p:nvCxnSpPr>
        <p:spPr>
          <a:xfrm>
            <a:off x="2676240" y="2607840"/>
            <a:ext cx="45612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0" idx="7"/>
            <a:endCxn id="345" idx="3"/>
          </p:cNvCxnSpPr>
          <p:nvPr/>
        </p:nvCxnSpPr>
        <p:spPr>
          <a:xfrm flipV="1">
            <a:off x="2055960" y="2112120"/>
            <a:ext cx="497520" cy="10198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49" idx="6"/>
            <a:endCxn id="350" idx="2"/>
          </p:cNvCxnSpPr>
          <p:nvPr/>
        </p:nvCxnSpPr>
        <p:spPr>
          <a:xfrm>
            <a:off x="1476360" y="3184200"/>
            <a:ext cx="456480" cy="108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62" name=""/>
          <p:cNvSpPr/>
          <p:nvPr/>
        </p:nvSpPr>
        <p:spPr>
          <a:xfrm>
            <a:off x="612720" y="4448160"/>
            <a:ext cx="2806920" cy="31680"/>
          </a:xfrm>
          <a:prstGeom prst="line">
            <a:avLst/>
          </a:prstGeom>
          <a:ln cap="sq" w="12600">
            <a:solidFill>
              <a:srgbClr val="2a5554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7968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84400" y="4392720"/>
            <a:ext cx="144720" cy="14436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4804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440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46040" y="4390920"/>
            <a:ext cx="14472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6040" y="4390920"/>
            <a:ext cx="14472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2760" y="4390920"/>
            <a:ext cx="144360" cy="14472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751120" y="4390920"/>
            <a:ext cx="144360" cy="144720"/>
          </a:xfrm>
          <a:prstGeom prst="ellipse">
            <a:avLst/>
          </a:prstGeom>
          <a:solidFill>
            <a:srgbClr val="e1f335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7804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11320" y="4390920"/>
            <a:ext cx="14436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19480" y="4392720"/>
            <a:ext cx="144360" cy="14436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14400" y="4390920"/>
            <a:ext cx="144720" cy="144720"/>
          </a:xfrm>
          <a:prstGeom prst="ellipse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E57-56DD-49ED-998A-913D39CD23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028 -0.27222 L 1.38889E-006 -4.44444E-006 E">
                                      <p:cBhvr>
                                        <p:cTn id="286" dur="1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329 -0.18588 L 0.00017 -0.00046 E">
                                      <p:cBhvr>
                                        <p:cTn id="29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93 -0.18796 L 0.00035 0.00093 E">
                                      <p:cBhvr>
                                        <p:cTn id="292" dur="1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21 -0.35023 L -4.72222E-006 -4.44444E-006 E">
                                      <p:cBhvr>
                                        <p:cTn id="294" dur="1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961 -0.35023 L 4.44444E-006 -4.44444E-006 E">
                                      <p:cBhvr>
                                        <p:cTn id="298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17 -0.1875 L -0.00052 0.00024 E">
                                      <p:cBhvr>
                                        <p:cTn id="302" dur="1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917 -0.35023 L -8.33333E-007 -4.44444E-006 E">
                                      <p:cBhvr>
                                        <p:cTn id="306" dur="1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72 -0.35023 L 0.00017 0.00024 E">
                                      <p:cBhvr>
                                        <p:cTn id="308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27199 L 3.88889E-006 0.00093 E">
                                      <p:cBhvr>
                                        <p:cTn id="310" dur="1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 -0.2706 L -0.00035 0.00024 E">
                                      <p:cBhvr>
                                        <p:cTn id="312" dur="1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107 -0.27292 L -1.38889E-006 4.07407E-006 E">
                                      <p:cBhvr>
                                        <p:cTn id="316" dur="1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-0.18959 L -0.00018 0.00023 E">
                                      <p:cBhvr>
                                        <p:cTn id="318" dur="1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Constraints between oper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t all schedules are acceptab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s, e.g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x &gt; 50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respect causal order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-or-nothing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 execution path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ing operations exclude each oth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B045-6F12-409B-8BA5-1FC52B1613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792840" cy="25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1. Résumé des épisodes précédents…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Primitive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68360" y="1814400"/>
            <a:ext cx="73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traint =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predicate (action, schedul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eclarative (“static binary”)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MustHave: a </a:t>
            </a:r>
            <a:r>
              <a:rPr b="0" lang="en-US" sz="2800" spc="-1" strike="noStrike">
                <a:solidFill>
                  <a:srgbClr val="2a5554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contiguous nor in order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rder: a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f a, b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 and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 then a before b in 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(not necessarily both nor contiguous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mperative (dynamic): a.preCondition (State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9A57-519E-4D60-A309-E288430E7E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28000" y="1692360"/>
            <a:ext cx="684000" cy="154764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00720" y="2197080"/>
            <a:ext cx="1692000" cy="503280"/>
          </a:xfrm>
          <a:prstGeom prst="rect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log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2448000"/>
            <a:ext cx="69487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68000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24360" y="230508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764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84720" y="230508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720" y="1908000"/>
            <a:ext cx="289080" cy="28764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388" name=""/>
          <p:cNvCxnSpPr>
            <a:stCxn id="385" idx="4"/>
            <a:endCxn id="386" idx="4"/>
          </p:cNvCxnSpPr>
          <p:nvPr/>
        </p:nvCxnSpPr>
        <p:spPr>
          <a:xfrm flipH="1" rot="16200000">
            <a:off x="2878920" y="1944360"/>
            <a:ext cx="2160" cy="1297800"/>
          </a:xfrm>
          <a:prstGeom prst="bentConnector3">
            <a:avLst>
              <a:gd name="adj1" fmla="val 30800000"/>
            </a:avLst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389" name=""/>
          <p:cNvSpPr/>
          <p:nvPr/>
        </p:nvSpPr>
        <p:spPr>
          <a:xfrm>
            <a:off x="7308720" y="266400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63680" y="1747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arcel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25440" y="14400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predecessor-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successo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778440" y="127944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alternatives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90160" y="3583080"/>
            <a:ext cx="79534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xpress user intent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decessor/successor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9759"/>
                </a:solidFill>
                <a:latin typeface="Arial"/>
              </a:rPr>
              <a:t>b uses effect of a; “a causes b”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arcel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214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ransaction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457200" indent="-27792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ternatives: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i="1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E75-DD49-449E-87EA-F319C2CE8C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159000" y="3259080"/>
            <a:ext cx="684360" cy="19702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2760000">
            <a:off x="2466360" y="3015360"/>
            <a:ext cx="684000" cy="2448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: Object constraint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00720" y="1711440"/>
            <a:ext cx="46432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hared data type advertises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emantic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tually exclus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-16992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best order (e.g. bank: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redits before debits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5349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Only between concurrent action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182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so: dynamic constrai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16080" y="3583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4008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47720" y="3440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44800" y="3440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6080" y="4834080"/>
            <a:ext cx="3958920" cy="0"/>
          </a:xfrm>
          <a:prstGeom prst="line">
            <a:avLst/>
          </a:prstGeom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4008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47720" y="4691160"/>
            <a:ext cx="28908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44800" y="4691160"/>
            <a:ext cx="288720" cy="28728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0" idx="4"/>
            <a:endCxn id="404" idx="0"/>
          </p:cNvCxnSpPr>
          <p:nvPr/>
        </p:nvCxnSpPr>
        <p:spPr>
          <a:xfrm>
            <a:off x="891720" y="3727080"/>
            <a:ext cx="1080" cy="96444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7" name=""/>
          <p:cNvCxnSpPr>
            <a:stCxn id="400" idx="4"/>
            <a:endCxn id="405" idx="1"/>
          </p:cNvCxnSpPr>
          <p:nvPr/>
        </p:nvCxnSpPr>
        <p:spPr>
          <a:xfrm>
            <a:off x="891720" y="3727440"/>
            <a:ext cx="1196280" cy="1007280"/>
          </a:xfrm>
          <a:prstGeom prst="straightConnector1">
            <a:avLst/>
          </a:prstGeom>
          <a:ln w="12600">
            <a:solidFill>
              <a:srgbClr val="00ff00"/>
            </a:solidFill>
            <a:prstDash val="sysDot"/>
            <a:miter/>
            <a:headEnd len="lg" type="arrow" w="lg"/>
            <a:tailEnd len="lg" type="arrow" w="lg"/>
          </a:ln>
        </p:spPr>
      </p:cxnSp>
      <p:cxnSp>
        <p:nvCxnSpPr>
          <p:cNvPr id="408" name=""/>
          <p:cNvCxnSpPr>
            <a:stCxn id="401" idx="3"/>
            <a:endCxn id="404" idx="7"/>
          </p:cNvCxnSpPr>
          <p:nvPr/>
        </p:nvCxnSpPr>
        <p:spPr>
          <a:xfrm flipH="1">
            <a:off x="992880" y="3684240"/>
            <a:ext cx="1094760" cy="1050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lg" type="triangle" w="lg"/>
          </a:ln>
        </p:spPr>
      </p:cxnSp>
      <p:sp>
        <p:nvSpPr>
          <p:cNvPr id="409" name=""/>
          <p:cNvSpPr/>
          <p:nvPr/>
        </p:nvSpPr>
        <p:spPr>
          <a:xfrm>
            <a:off x="340200" y="2873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commut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04320" y="256536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order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33280" y="24922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mutuall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5A0-D56F-4304-85DB-50EADF6FFE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Optimistic concurrency control &amp;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Two actions are either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dependence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utati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any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with favourabl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schedule in non-conflicting order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current and conflict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or exclude one, the other, or both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460-D2F8-4138-8C9E-DA0BA38FA70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775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sight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flict: choice of which action to exclud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aximise val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724-75A6-4131-B5C6-3B3BD7C60F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4716360" y="4437000"/>
            <a:ext cx="3888000" cy="503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IceCube scheduling mode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1600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59280" y="220680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18" idx="4"/>
            <a:endCxn id="419" idx="2"/>
          </p:cNvCxnSpPr>
          <p:nvPr/>
        </p:nvCxnSpPr>
        <p:spPr>
          <a:xfrm>
            <a:off x="1476000" y="2387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21" name=""/>
          <p:cNvSpPr/>
          <p:nvPr/>
        </p:nvSpPr>
        <p:spPr>
          <a:xfrm>
            <a:off x="173520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6532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9724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27360" y="2351160"/>
            <a:ext cx="71280" cy="71280"/>
          </a:xfrm>
          <a:prstGeom prst="ellipse">
            <a:avLst/>
          </a:prstGeom>
          <a:solidFill>
            <a:srgbClr val="fc064c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360" y="1557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fe96b4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26" name="laptop"/>
          <p:cNvSpPr/>
          <p:nvPr/>
        </p:nvSpPr>
        <p:spPr>
          <a:xfrm>
            <a:off x="971640" y="1557360"/>
            <a:ext cx="637920" cy="479520"/>
          </a:xfrm>
          <a:prstGeom prst="pie">
            <a:avLst/>
          </a:prstGeom>
          <a:solidFill>
            <a:srgbClr val="fe9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900000" y="3415680"/>
            <a:ext cx="646200" cy="587520"/>
            <a:chOff x="900000" y="3415680"/>
            <a:chExt cx="646200" cy="587520"/>
          </a:xfrm>
        </p:grpSpPr>
        <p:sp>
          <p:nvSpPr>
            <p:cNvPr id="428" name=""/>
            <p:cNvSpPr/>
            <p:nvPr/>
          </p:nvSpPr>
          <p:spPr>
            <a:xfrm>
              <a:off x="900000" y="367956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16000" y="3645000"/>
              <a:ext cx="7128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31640" y="39319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74560" y="3645000"/>
              <a:ext cx="71640" cy="7092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432" name=""/>
            <p:cNvCxnSpPr>
              <a:stCxn id="429" idx="5"/>
            </p:cNvCxnSpPr>
            <p:nvPr/>
          </p:nvCxnSpPr>
          <p:spPr>
            <a:xfrm>
              <a:off x="1176120" y="3704760"/>
              <a:ext cx="155880" cy="22716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433" name=""/>
            <p:cNvCxnSpPr>
              <a:stCxn id="431" idx="1"/>
              <a:endCxn id="428" idx="0"/>
            </p:cNvCxnSpPr>
            <p:nvPr/>
          </p:nvCxnSpPr>
          <p:spPr>
            <a:xfrm rot="5400000">
              <a:off x="1198800" y="3391920"/>
              <a:ext cx="24120" cy="550080"/>
            </a:xfrm>
            <a:prstGeom prst="curvedConnector5">
              <a:avLst>
                <a:gd name="adj1" fmla="val -1006060"/>
                <a:gd name="adj2" fmla="val 49967"/>
                <a:gd name="adj3" fmla="val -100606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434" name=""/>
          <p:cNvSpPr/>
          <p:nvPr/>
        </p:nvSpPr>
        <p:spPr>
          <a:xfrm>
            <a:off x="111600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5878440"/>
            <a:ext cx="360360" cy="360360"/>
          </a:xfrm>
          <a:prstGeom prst="flowChartMagneticDisk">
            <a:avLst/>
          </a:prstGeom>
          <a:solidFill>
            <a:srgbClr val="4fa19f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2a555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34" idx="4"/>
            <a:endCxn id="435" idx="2"/>
          </p:cNvCxnSpPr>
          <p:nvPr/>
        </p:nvCxnSpPr>
        <p:spPr>
          <a:xfrm>
            <a:off x="1476000" y="6059160"/>
            <a:ext cx="158364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sp>
        <p:nvSpPr>
          <p:cNvPr id="437" name=""/>
          <p:cNvSpPr/>
          <p:nvPr/>
        </p:nvSpPr>
        <p:spPr>
          <a:xfrm>
            <a:off x="173520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6532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9724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27360" y="6022800"/>
            <a:ext cx="71280" cy="71640"/>
          </a:xfrm>
          <a:prstGeom prst="ellipse">
            <a:avLst/>
          </a:prstGeom>
          <a:solidFill>
            <a:srgbClr val="987aae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8360" y="5229360"/>
            <a:ext cx="431640" cy="431640"/>
          </a:xfrm>
          <a:prstGeom prst="smileyFace">
            <a:avLst>
              <a:gd name="adj" fmla="val 9282"/>
            </a:avLst>
          </a:prstGeom>
          <a:solidFill>
            <a:srgbClr val="dfd6e6"/>
          </a:solidFill>
          <a:ln w="936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42" name="laptop"/>
          <p:cNvSpPr/>
          <p:nvPr/>
        </p:nvSpPr>
        <p:spPr>
          <a:xfrm>
            <a:off x="971640" y="5229360"/>
            <a:ext cx="637920" cy="479160"/>
          </a:xfrm>
          <a:prstGeom prst="pie">
            <a:avLst/>
          </a:prstGeom>
          <a:solidFill>
            <a:srgbClr val="dfd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4" idx="4"/>
            <a:endCxn id="445" idx="2"/>
          </p:cNvCxnSpPr>
          <p:nvPr/>
        </p:nvCxnSpPr>
        <p:spPr>
          <a:xfrm>
            <a:off x="5219640" y="46526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6" name=""/>
          <p:cNvCxnSpPr>
            <a:stCxn id="447" idx="4"/>
            <a:endCxn id="448" idx="2"/>
          </p:cNvCxnSpPr>
          <p:nvPr/>
        </p:nvCxnSpPr>
        <p:spPr>
          <a:xfrm>
            <a:off x="5219640" y="656244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49" name=""/>
          <p:cNvCxnSpPr>
            <a:stCxn id="450" idx="4"/>
            <a:endCxn id="451" idx="2"/>
          </p:cNvCxnSpPr>
          <p:nvPr/>
        </p:nvCxnSpPr>
        <p:spPr>
          <a:xfrm>
            <a:off x="5219640" y="210456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cxnSp>
        <p:nvCxnSpPr>
          <p:cNvPr id="452" name=""/>
          <p:cNvCxnSpPr>
            <a:stCxn id="453" idx="4"/>
            <a:endCxn id="454" idx="2"/>
          </p:cNvCxnSpPr>
          <p:nvPr/>
        </p:nvCxnSpPr>
        <p:spPr>
          <a:xfrm>
            <a:off x="5219640" y="274140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55" name=""/>
          <p:cNvGrpSpPr/>
          <p:nvPr/>
        </p:nvGrpSpPr>
        <p:grpSpPr>
          <a:xfrm>
            <a:off x="6119640" y="2068560"/>
            <a:ext cx="71640" cy="4529160"/>
            <a:chOff x="6119640" y="2068560"/>
            <a:chExt cx="71640" cy="4529160"/>
          </a:xfrm>
        </p:grpSpPr>
        <p:sp>
          <p:nvSpPr>
            <p:cNvPr id="456" name=""/>
            <p:cNvSpPr/>
            <p:nvPr/>
          </p:nvSpPr>
          <p:spPr>
            <a:xfrm>
              <a:off x="6119640" y="46162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9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19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19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738920" y="2068560"/>
            <a:ext cx="71640" cy="708120"/>
            <a:chOff x="7738920" y="2068560"/>
            <a:chExt cx="71640" cy="708120"/>
          </a:xfrm>
        </p:grpSpPr>
        <p:sp>
          <p:nvSpPr>
            <p:cNvPr id="461" name=""/>
            <p:cNvSpPr/>
            <p:nvPr/>
          </p:nvSpPr>
          <p:spPr>
            <a:xfrm>
              <a:off x="7738920" y="20685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892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859280" y="1924200"/>
            <a:ext cx="360360" cy="4817880"/>
            <a:chOff x="4859280" y="1924200"/>
            <a:chExt cx="360360" cy="4817880"/>
          </a:xfrm>
        </p:grpSpPr>
        <p:sp>
          <p:nvSpPr>
            <p:cNvPr id="444" name=""/>
            <p:cNvSpPr/>
            <p:nvPr/>
          </p:nvSpPr>
          <p:spPr>
            <a:xfrm>
              <a:off x="48592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592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92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592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592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8101080" y="1924200"/>
            <a:ext cx="360360" cy="4817880"/>
            <a:chOff x="8101080" y="1924200"/>
            <a:chExt cx="360360" cy="4817880"/>
          </a:xfrm>
        </p:grpSpPr>
        <p:sp>
          <p:nvSpPr>
            <p:cNvPr id="445" name=""/>
            <p:cNvSpPr/>
            <p:nvPr/>
          </p:nvSpPr>
          <p:spPr>
            <a:xfrm>
              <a:off x="8101080" y="44719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01080" y="638172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101080" y="19242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101080" y="256068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101080" y="319716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cxnSp>
        <p:nvCxnSpPr>
          <p:cNvPr id="467" name=""/>
          <p:cNvCxnSpPr>
            <a:stCxn id="464" idx="4"/>
            <a:endCxn id="466" idx="2"/>
          </p:cNvCxnSpPr>
          <p:nvPr/>
        </p:nvCxnSpPr>
        <p:spPr>
          <a:xfrm>
            <a:off x="5219640" y="3377880"/>
            <a:ext cx="2882160" cy="1080"/>
          </a:xfrm>
          <a:prstGeom prst="straightConnector1">
            <a:avLst/>
          </a:prstGeom>
          <a:ln w="9360">
            <a:solidFill>
              <a:srgbClr val="2a5554"/>
            </a:solidFill>
            <a:miter/>
            <a:tailEnd len="med" type="arrow" w="med"/>
          </a:ln>
        </p:spPr>
      </p:cxnSp>
      <p:grpSp>
        <p:nvGrpSpPr>
          <p:cNvPr id="468" name=""/>
          <p:cNvGrpSpPr/>
          <p:nvPr/>
        </p:nvGrpSpPr>
        <p:grpSpPr>
          <a:xfrm>
            <a:off x="5472000" y="2068560"/>
            <a:ext cx="71640" cy="4529160"/>
            <a:chOff x="5472000" y="2068560"/>
            <a:chExt cx="71640" cy="4529160"/>
          </a:xfrm>
        </p:grpSpPr>
        <p:sp>
          <p:nvSpPr>
            <p:cNvPr id="469" name=""/>
            <p:cNvSpPr/>
            <p:nvPr/>
          </p:nvSpPr>
          <p:spPr>
            <a:xfrm>
              <a:off x="5472000" y="65260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200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200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472000" y="334152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796000" y="2068560"/>
            <a:ext cx="71280" cy="4529160"/>
            <a:chOff x="5796000" y="2068560"/>
            <a:chExt cx="71280" cy="4529160"/>
          </a:xfrm>
        </p:grpSpPr>
        <p:sp>
          <p:nvSpPr>
            <p:cNvPr id="474" name=""/>
            <p:cNvSpPr/>
            <p:nvPr/>
          </p:nvSpPr>
          <p:spPr>
            <a:xfrm>
              <a:off x="579600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9600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96000" y="206856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79600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9600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443640" y="2068560"/>
            <a:ext cx="71640" cy="4529160"/>
            <a:chOff x="6443640" y="2068560"/>
            <a:chExt cx="71640" cy="4529160"/>
          </a:xfrm>
        </p:grpSpPr>
        <p:sp>
          <p:nvSpPr>
            <p:cNvPr id="480" name=""/>
            <p:cNvSpPr/>
            <p:nvPr/>
          </p:nvSpPr>
          <p:spPr>
            <a:xfrm>
              <a:off x="644364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43640" y="20685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3640" y="270504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44364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767640" y="2068560"/>
            <a:ext cx="71280" cy="4529160"/>
            <a:chOff x="6767640" y="2068560"/>
            <a:chExt cx="71280" cy="4529160"/>
          </a:xfrm>
        </p:grpSpPr>
        <p:sp>
          <p:nvSpPr>
            <p:cNvPr id="485" name=""/>
            <p:cNvSpPr/>
            <p:nvPr/>
          </p:nvSpPr>
          <p:spPr>
            <a:xfrm>
              <a:off x="676764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67640" y="652608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764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7640" y="270504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67640" y="3341520"/>
              <a:ext cx="7128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091280" y="2705040"/>
            <a:ext cx="71640" cy="3892680"/>
            <a:chOff x="7091280" y="2705040"/>
            <a:chExt cx="71640" cy="3892680"/>
          </a:xfrm>
        </p:grpSpPr>
        <p:sp>
          <p:nvSpPr>
            <p:cNvPr id="491" name=""/>
            <p:cNvSpPr/>
            <p:nvPr/>
          </p:nvSpPr>
          <p:spPr>
            <a:xfrm>
              <a:off x="7091280" y="461628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91280" y="652608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91280" y="270504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91280" y="334152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415280" y="2068560"/>
            <a:ext cx="71280" cy="4529160"/>
            <a:chOff x="7415280" y="2068560"/>
            <a:chExt cx="71280" cy="4529160"/>
          </a:xfrm>
        </p:grpSpPr>
        <p:sp>
          <p:nvSpPr>
            <p:cNvPr id="496" name=""/>
            <p:cNvSpPr/>
            <p:nvPr/>
          </p:nvSpPr>
          <p:spPr>
            <a:xfrm>
              <a:off x="7415280" y="46162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415280" y="652608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415280" y="20685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415280" y="270504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15280" y="334152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195640" y="3429000"/>
            <a:ext cx="503280" cy="502920"/>
            <a:chOff x="2195640" y="3429000"/>
            <a:chExt cx="503280" cy="502920"/>
          </a:xfrm>
        </p:grpSpPr>
        <p:sp>
          <p:nvSpPr>
            <p:cNvPr id="502" name=""/>
            <p:cNvSpPr/>
            <p:nvPr/>
          </p:nvSpPr>
          <p:spPr>
            <a:xfrm>
              <a:off x="2195640" y="342900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000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27280" y="3571560"/>
              <a:ext cx="7164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27280" y="386064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1"/>
              <a:endCxn id="502" idx="4"/>
            </p:cNvCxnSpPr>
            <p:nvPr/>
          </p:nvCxnSpPr>
          <p:spPr>
            <a:xfrm flipV="1" rot="16200000">
              <a:off x="2105280" y="3625920"/>
              <a:ext cx="372240" cy="119880"/>
            </a:xfrm>
            <a:prstGeom prst="curvedConnector5">
              <a:avLst>
                <a:gd name="adj1" fmla="val 51210"/>
                <a:gd name="adj2" fmla="val 50000"/>
                <a:gd name="adj3" fmla="val 51210"/>
              </a:avLst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503" idx="6"/>
              <a:endCxn id="505" idx="2"/>
            </p:cNvCxnSpPr>
            <p:nvPr/>
          </p:nvCxnSpPr>
          <p:spPr>
            <a:xfrm>
              <a:off x="2411280" y="3896640"/>
              <a:ext cx="2163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504" idx="4"/>
              <a:endCxn id="503" idx="7"/>
            </p:cNvCxnSpPr>
            <p:nvPr/>
          </p:nvCxnSpPr>
          <p:spPr>
            <a:xfrm flipH="1">
              <a:off x="2400120" y="3642840"/>
              <a:ext cx="264240" cy="22932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09" name=""/>
          <p:cNvGrpSpPr/>
          <p:nvPr/>
        </p:nvGrpSpPr>
        <p:grpSpPr>
          <a:xfrm>
            <a:off x="936360" y="3200040"/>
            <a:ext cx="1475280" cy="757440"/>
            <a:chOff x="936360" y="3200040"/>
            <a:chExt cx="1475280" cy="757440"/>
          </a:xfrm>
        </p:grpSpPr>
        <p:cxnSp>
          <p:nvCxnSpPr>
            <p:cNvPr id="510" name=""/>
            <p:cNvCxnSpPr/>
            <p:nvPr/>
          </p:nvCxnSpPr>
          <p:spPr>
            <a:xfrm flipV="1">
              <a:off x="1403280" y="3885840"/>
              <a:ext cx="1008720" cy="72000"/>
            </a:xfrm>
            <a:prstGeom prst="straightConnector1">
              <a:avLst/>
            </a:prstGeom>
            <a:ln w="9360">
              <a:solidFill>
                <a:srgbClr val="2a5554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2" idx="7"/>
              <a:endCxn id="428" idx="0"/>
            </p:cNvCxnSpPr>
            <p:nvPr/>
          </p:nvCxnSpPr>
          <p:spPr>
            <a:xfrm rot="5400000">
              <a:off x="1475640" y="2900520"/>
              <a:ext cx="240480" cy="1319760"/>
            </a:xfrm>
            <a:prstGeom prst="curvedConnector5">
              <a:avLst>
                <a:gd name="adj1" fmla="val -100000"/>
                <a:gd name="adj2" fmla="val 49986"/>
                <a:gd name="adj3" fmla="val -100000"/>
              </a:avLst>
            </a:prstGeom>
            <a:ln w="9360">
              <a:solidFill>
                <a:srgbClr val="2a5554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2340000" y="4292640"/>
            <a:ext cx="1616400" cy="1512720"/>
            <a:chOff x="2340000" y="4292640"/>
            <a:chExt cx="1616400" cy="1512720"/>
          </a:xfrm>
        </p:grpSpPr>
        <p:sp>
          <p:nvSpPr>
            <p:cNvPr id="513" name=""/>
            <p:cNvSpPr/>
            <p:nvPr/>
          </p:nvSpPr>
          <p:spPr>
            <a:xfrm flipV="1">
              <a:off x="2340000" y="4292640"/>
              <a:ext cx="216000" cy="151272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464920" y="4697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618920" y="2565360"/>
            <a:ext cx="1708920" cy="503280"/>
            <a:chOff x="1618920" y="2565360"/>
            <a:chExt cx="1708920" cy="503280"/>
          </a:xfrm>
        </p:grpSpPr>
        <p:sp>
          <p:nvSpPr>
            <p:cNvPr id="516" name=""/>
            <p:cNvSpPr/>
            <p:nvPr/>
          </p:nvSpPr>
          <p:spPr>
            <a:xfrm flipH="1">
              <a:off x="1618920" y="2565360"/>
              <a:ext cx="431640" cy="50328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36360" y="2681280"/>
              <a:ext cx="149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a5554"/>
                  </a:solidFill>
                  <a:latin typeface="Arial"/>
                </a:rPr>
                <a:t>log constraints</a:t>
              </a:r>
              <a:endParaRPr b="0" lang="en-US" sz="16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2987640" y="3427560"/>
            <a:ext cx="1584360" cy="361440"/>
            <a:chOff x="2987640" y="3427560"/>
            <a:chExt cx="1584360" cy="361440"/>
          </a:xfrm>
        </p:grpSpPr>
        <p:sp>
          <p:nvSpPr>
            <p:cNvPr id="519" name=""/>
            <p:cNvSpPr/>
            <p:nvPr/>
          </p:nvSpPr>
          <p:spPr>
            <a:xfrm flipV="1">
              <a:off x="2987640" y="3644640"/>
              <a:ext cx="1584360" cy="144360"/>
            </a:xfrm>
            <a:prstGeom prst="line">
              <a:avLst/>
            </a:prstGeom>
            <a:ln w="9360">
              <a:solidFill>
                <a:srgbClr val="2a555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755880" y="342756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7164360" y="1557360"/>
            <a:ext cx="287280" cy="50328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450920" y="2349360"/>
            <a:ext cx="289080" cy="358920"/>
          </a:xfrm>
          <a:prstGeom prst="lightningBolt">
            <a:avLst/>
          </a:prstGeom>
          <a:noFill/>
          <a:ln w="19080">
            <a:solidFill>
              <a:srgbClr val="fc0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20" y="2789280"/>
            <a:ext cx="116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object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5554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859280" y="3500280"/>
            <a:ext cx="3602160" cy="2605320"/>
            <a:chOff x="4859280" y="3500280"/>
            <a:chExt cx="3602160" cy="2605320"/>
          </a:xfrm>
        </p:grpSpPr>
        <p:sp>
          <p:nvSpPr>
            <p:cNvPr id="525" name=""/>
            <p:cNvSpPr/>
            <p:nvPr/>
          </p:nvSpPr>
          <p:spPr>
            <a:xfrm>
              <a:off x="48592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01080" y="510840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5" idx="4"/>
              <a:endCxn id="526" idx="2"/>
            </p:cNvCxnSpPr>
            <p:nvPr/>
          </p:nvCxnSpPr>
          <p:spPr>
            <a:xfrm>
              <a:off x="5219640" y="528912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28" name=""/>
            <p:cNvSpPr/>
            <p:nvPr/>
          </p:nvSpPr>
          <p:spPr>
            <a:xfrm>
              <a:off x="547200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9600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9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443640" y="525312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67640" y="5253120"/>
              <a:ext cx="7128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9128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415280" y="525312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738920" y="525312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592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01080" y="57452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38" name=""/>
            <p:cNvCxnSpPr>
              <a:stCxn id="536" idx="4"/>
              <a:endCxn id="537" idx="2"/>
            </p:cNvCxnSpPr>
            <p:nvPr/>
          </p:nvCxnSpPr>
          <p:spPr>
            <a:xfrm>
              <a:off x="5219640" y="592560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39" name=""/>
            <p:cNvSpPr/>
            <p:nvPr/>
          </p:nvSpPr>
          <p:spPr>
            <a:xfrm>
              <a:off x="547200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964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5280" y="5889600"/>
              <a:ext cx="71280" cy="7164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38920" y="5889600"/>
              <a:ext cx="71640" cy="7164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592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101080" y="3833640"/>
              <a:ext cx="360360" cy="360360"/>
            </a:xfrm>
            <a:prstGeom prst="flowChartMagneticDisk">
              <a:avLst/>
            </a:prstGeom>
            <a:solidFill>
              <a:srgbClr val="4fa19f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2a5554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5554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545" name=""/>
            <p:cNvCxnSpPr>
              <a:stCxn id="543" idx="4"/>
              <a:endCxn id="544" idx="2"/>
            </p:cNvCxnSpPr>
            <p:nvPr/>
          </p:nvCxnSpPr>
          <p:spPr>
            <a:xfrm>
              <a:off x="5219640" y="4014360"/>
              <a:ext cx="2882160" cy="1080"/>
            </a:xfrm>
            <a:prstGeom prst="straightConnector1">
              <a:avLst/>
            </a:prstGeom>
            <a:ln w="9360">
              <a:solidFill>
                <a:srgbClr val="2a5554"/>
              </a:solidFill>
              <a:miter/>
              <a:tailEnd len="med" type="arrow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547200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600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4364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91280" y="3978360"/>
              <a:ext cx="7164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15280" y="3978360"/>
              <a:ext cx="71280" cy="71280"/>
            </a:xfrm>
            <a:prstGeom prst="ellipse">
              <a:avLst/>
            </a:prstGeom>
            <a:solidFill>
              <a:srgbClr val="fc064c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38920" y="3978360"/>
              <a:ext cx="71640" cy="71280"/>
            </a:xfrm>
            <a:prstGeom prst="ellipse">
              <a:avLst/>
            </a:prstGeom>
            <a:solidFill>
              <a:srgbClr val="987aae"/>
            </a:solidFill>
            <a:ln w="9360">
              <a:solidFill>
                <a:srgbClr val="2a55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67280" y="350028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487640" y="4761000"/>
              <a:ext cx="29196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201080" y="5445000"/>
              <a:ext cx="287280" cy="503280"/>
            </a:xfrm>
            <a:prstGeom prst="lightningBolt">
              <a:avLst/>
            </a:prstGeom>
            <a:noFill/>
            <a:ln w="19080">
              <a:solidFill>
                <a:srgbClr val="fc0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6157440" y="1220760"/>
            <a:ext cx="197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a5554"/>
                </a:solidFill>
                <a:latin typeface="Arial"/>
              </a:rPr>
              <a:t>dynamic constraints</a:t>
            </a:r>
            <a:endParaRPr b="0" lang="en-US" sz="1600" spc="-1" strike="noStrike">
              <a:solidFill>
                <a:srgbClr val="2a5554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2987640" y="2133720"/>
            <a:ext cx="539280" cy="574560"/>
            <a:chOff x="2987640" y="2133720"/>
            <a:chExt cx="539280" cy="574560"/>
          </a:xfrm>
        </p:grpSpPr>
        <p:sp>
          <p:nvSpPr>
            <p:cNvPr id="558" name=""/>
            <p:cNvSpPr/>
            <p:nvPr/>
          </p:nvSpPr>
          <p:spPr>
            <a:xfrm>
              <a:off x="2987640" y="213372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24000" y="213372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987640" y="5805360"/>
            <a:ext cx="539280" cy="574560"/>
            <a:chOff x="2987640" y="5805360"/>
            <a:chExt cx="539280" cy="574560"/>
          </a:xfrm>
        </p:grpSpPr>
        <p:sp>
          <p:nvSpPr>
            <p:cNvPr id="561" name=""/>
            <p:cNvSpPr/>
            <p:nvPr/>
          </p:nvSpPr>
          <p:spPr>
            <a:xfrm>
              <a:off x="2987640" y="5805360"/>
              <a:ext cx="468360" cy="5745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024000" y="5805360"/>
              <a:ext cx="502920" cy="5396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045-EC01-41C3-913D-01993844F5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earch vs. syntactic order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368360" y="1989000"/>
          <a:ext cx="7344000" cy="43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989000"/>
                    <a:ext cx="7344000" cy="43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"/>
          <p:cNvSpPr/>
          <p:nvPr/>
        </p:nvSpPr>
        <p:spPr>
          <a:xfrm>
            <a:off x="7164360" y="5589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7FC-E37F-48D4-957C-A3A1775CB91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formance of IceCube heuristic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1533600" y="1533600"/>
          <a:ext cx="766440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1533600"/>
                    <a:ext cx="766440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111F-8659-40BA-A407-DD63E22E89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808080"/>
                </a:solidFill>
                <a:latin typeface="Arial"/>
              </a:rPr>
              <a:t>3. Cohérence à terme </a:t>
            </a:r>
            <a:r>
              <a:rPr b="0" i="1" lang="en-GB" sz="5400" spc="-1" strike="noStrike">
                <a:solidFill>
                  <a:srgbClr val="808080"/>
                </a:solidFill>
                <a:latin typeface="Arial"/>
              </a:rPr>
              <a:t>(Eventual consistency)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2133360" y="3689280"/>
            <a:ext cx="6476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user inte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istent with data invarian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plicas consistent with each oth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ach site receives all 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 that satisfies constrain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stable prefix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result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072-A210-4628-82A3-AFEFA9F1818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Grandes étap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000" y="1938240"/>
            <a:ext cx="7775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: Ingénieur ENSEEIHT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78--1980: doctorant LAA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0--1982: Post-doc MIT Lab. for Computer Scienc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2--1985: Chargé de Recherches CMIRH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84--1985: INRIA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86--1999: Directeur de recherche, responsable scientifique INRIA projet SOR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3--1994: Cornell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fa19f"/>
                </a:solidFill>
                <a:latin typeface="Arial"/>
              </a:rPr>
              <a:t>1997: Jini, Sun Research Labs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1999+: Senior Researcher, MSR Cambridge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52E-8606-4DCC-986A-528183281E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368360" y="1571760"/>
            <a:ext cx="667080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er-to-peer, indefinite tentative update + advisory reconciliation OK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But stability needed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Users, external world depend on 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Garbage collect multilo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Only stable actions relevant for consistenc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table: eventually decisions not changed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: definitely included in all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borted: definitely exclud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4E1-73A9-4948-99CB-659F73221F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: intuitiv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368000" y="2139840"/>
            <a:ext cx="75963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iveness: sites receive all operation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pidemic multicas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Quickl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afety: sites compute the same valu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Equivalent schedul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tability: actions eventually not und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/ abor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455-0FDA-4A76-85F5-0A7F684A63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ound schedul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368360" y="2122560"/>
            <a:ext cx="7344000" cy="42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ound =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satisfies constraints for all its action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i="1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a</a:t>
            </a:r>
            <a:r>
              <a:rPr b="0" lang="en-GB" sz="2800" spc="-1" strike="noStrike">
                <a:solidFill>
                  <a:srgbClr val="5f9759"/>
                </a:solidFill>
                <a:latin typeface="Wingdings 3"/>
                <a:ea typeface="Wingdings 3"/>
              </a:rPr>
              <a:t>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nsistent with Order (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cyclic)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(a,b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)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before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in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 s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32F-137F-4E60-8CEE-7FEDDBF169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local soundnes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368000" y="1495440"/>
            <a:ext cx="7775640" cy="48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5f9759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5f9759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abor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lso abort actions that MustHav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When committing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,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lso abort uncommitted actions that are ‘Order’ed befor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0A6A-F579-415E-BAE0-307CACB7A4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chedule equivalence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quivalence: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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 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, t </a:t>
            </a: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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 a</a:t>
            </a:r>
            <a:r>
              <a:rPr b="0" lang="en-US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4fa19f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ordering is irrelevant!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Eventual consistency reduces to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ame committed operations everywhe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ll committed operations in every schedu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hedules are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DE6-C89E-478D-95FD-E05613EE41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Eventual consistency 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368000" y="1988640"/>
            <a:ext cx="7101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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action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it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i,k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, schedule 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egal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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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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=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af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soun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Liv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 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i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Wingdings 2"/>
                <a:ea typeface="Wingdings 2"/>
              </a:rPr>
              <a:t>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borted</a:t>
            </a:r>
            <a:r>
              <a:rPr b="0" i="1" lang="en-GB" sz="2800" spc="-1" strike="noStrike" baseline="-25000">
                <a:solidFill>
                  <a:srgbClr val="4fa19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BDEF-4358-4855-B2C9-3B4646A0B0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Global safety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68360" y="1706400"/>
            <a:ext cx="734400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ound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 [</a:t>
            </a:r>
            <a:r>
              <a:rPr b="0" lang="en-GB" sz="6000" spc="-1" strike="noStrike">
                <a:solidFill>
                  <a:srgbClr val="2a5554"/>
                </a:solidFill>
                <a:latin typeface="Symbol"/>
                <a:ea typeface="Symbol"/>
              </a:rPr>
              <a:t>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time, 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 baseline="-25000">
                <a:solidFill>
                  <a:srgbClr val="2a5554"/>
                </a:solidFill>
                <a:latin typeface="Arial"/>
              </a:rPr>
              <a:t> sites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committed</a:t>
            </a:r>
            <a:r>
              <a:rPr b="0" i="1" lang="en-GB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i="1" lang="en-GB" sz="2800" spc="-1" strike="noStrike">
                <a:solidFill>
                  <a:srgbClr val="2a5554"/>
                </a:solidFill>
                <a:latin typeface="Arial"/>
              </a:rPr>
              <a:t>(t)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</a:t>
            </a:r>
            <a:r>
              <a:rPr b="0" lang="en-GB" sz="6000" spc="-1" strike="noStrike">
                <a:solidFill>
                  <a:srgbClr val="2a5554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Closed for MustHave </a:t>
            </a:r>
            <a:r>
              <a:rPr b="0" lang="en-GB" sz="2800" spc="-1" strike="noStrike">
                <a:solidFill>
                  <a:srgbClr val="4fa19f"/>
                </a:solidFill>
                <a:latin typeface="Wingdings 3"/>
                <a:ea typeface="Wingdings 3"/>
              </a:rPr>
              <a:t>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Non-conflicting: Acyclic in Order </a:t>
            </a:r>
            <a:r>
              <a:rPr b="0" lang="en-GB" sz="2800" spc="-1" strike="noStrike">
                <a:solidFill>
                  <a:srgbClr val="4fa19f"/>
                </a:solidFill>
                <a:latin typeface="Symbol"/>
                <a:ea typeface="Symbol"/>
              </a:rPr>
              <a:t>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ctions successful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31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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s, </a:t>
            </a:r>
            <a:r>
              <a:rPr b="0" lang="en-GB" sz="2800" spc="-1" strike="noStrike">
                <a:solidFill>
                  <a:srgbClr val="5f9759"/>
                </a:solidFill>
                <a:latin typeface="Symbol"/>
                <a:ea typeface="Symbol"/>
              </a:rPr>
              <a:t></a:t>
            </a:r>
            <a:r>
              <a:rPr b="0" i="1" lang="en-GB" sz="2800" spc="-1" strike="noStrike">
                <a:solidFill>
                  <a:srgbClr val="5f9759"/>
                </a:solidFill>
                <a:latin typeface="Arial"/>
              </a:rPr>
              <a:t>a: a.preCondition (state)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Very strong!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commits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only if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j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on’t commit conflicting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at </a:t>
            </a: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t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4fa19f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4fa19f"/>
                </a:solidFill>
                <a:latin typeface="Arial"/>
              </a:rPr>
              <a:t> will succeed everywhere, anytim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D42-8565-4BC3-B4D8-5AE04FAA17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77564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Maintaining global invariant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368000" y="1872720"/>
            <a:ext cx="722484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ternativ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on knowledge: deterministic abort rule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TWR 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Unilateral abort [idem commit?]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CVS, Holliday 2000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rimary site decid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Bayou, CV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sensus before deciding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9759"/>
                </a:solidFill>
                <a:latin typeface="Arial"/>
              </a:rPr>
              <a:t>Deno, Holliday 2000-2002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524-B119-4CE1-AA98-D1CF695B91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with TWR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objec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Independent writes (no MustHave nor Order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All sites take same decision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Given two writes to same object, abort the earli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hether concurrent or no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Write stable when seen by all sit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committed</a:t>
            </a:r>
            <a:r>
              <a:rPr b="0" i="1" lang="en-US" sz="2800" spc="-1" strike="noStrike" baseline="-25000">
                <a:solidFill>
                  <a:srgbClr val="2a5554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2a5554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no MustHave (no transactions)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29E-17C1-4754-B44F-3C352633D6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Stability in Bayou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atabases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Disjoi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ndependent: no multi-DB transaction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1 primary / databas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transactions, time orde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Disjointness: Only 1 site decides abou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: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the primary for the database that </a:t>
            </a:r>
            <a:r>
              <a:rPr b="0" i="1" lang="en-US" sz="2800" spc="-1" strike="noStrike">
                <a:solidFill>
                  <a:srgbClr val="2a5554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 updat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Soundness: whole transaction commits or abort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28E-48D9-4247-8AF4-CDE146DD1B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Thèses encadré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8360" y="1652400"/>
            <a:ext cx="7344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ek Loong Chong. U. de Cambridge, 200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Nicolas Richer.  Paris 6, 200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Fabrice le Fessant (co-encadrement). Polytechnique, 200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Xavier Blondel.   CNAM, 2000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Aline Baggio. Paris 6, 199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Georges Brun-Cottan. Paris 6, 1998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Julien Maisonneuve,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Paulo Ferreira. Paris 6, 1996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Hervé Soulard. Paris 6, 1995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vid Plainfossé. Paris 6, 1994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Daniel Edelson. UC Santa Cruz, 1993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ichel Ruffin. Paris 6, 1992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Yvon Gourhant. Paris 6, 1991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Sabine Habert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a5554"/>
                </a:solidFill>
                <a:latin typeface="Arial"/>
              </a:rPr>
              <a:t>Mesaac Mounchili Makpangou. Paris 6, 1989.</a:t>
            </a:r>
            <a:endParaRPr b="0" lang="en-US" sz="20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C3D-FF71-448B-9ACE-2670255BC0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Holliday’s pre-commit protocol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368360" y="1787040"/>
            <a:ext cx="73440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Log constraints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multi-object transac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happens-before ord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 transactions commit locall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Read-Write transactions: consensus to commit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nvert locks to intentio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pre-commit, vot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commit if quorum ‘yes’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35480" indent="-28296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 if anti-quorum ‘no’ or conflict with committe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37D4-4886-4575-9D63-ADBCC4E116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Trade-off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368000" y="1496880"/>
            <a:ext cx="777564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No perfect solu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mmon knowledge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yntactic: fast, inflexi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aborts, doesn’t commi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Partition + primary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ingle point of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no MustHave across partition boundari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5554"/>
                </a:solidFill>
                <a:latin typeface="Arial"/>
              </a:rPr>
              <a:t>Consensu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scalability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a19f"/>
                </a:solidFill>
                <a:latin typeface="Arial"/>
              </a:rPr>
              <a:t>impossibility of consensus in asynchronous systems with failu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AD6E-77AD-42A7-BFA2-A2B043C1C0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133360" y="836280"/>
            <a:ext cx="647676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808080"/>
                </a:solidFill>
                <a:latin typeface="Arial"/>
              </a:rPr>
              <a:t>4. Conclusion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assage à l’échelle ?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plication en écritur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pessimiste = attendr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C optimiste = spécul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Progrès malgré pannes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Non transparen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5f97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f9759"/>
                </a:solidFill>
                <a:latin typeface="Arial"/>
              </a:rPr>
              <a:t>Limité par le commit</a:t>
            </a:r>
            <a:endParaRPr b="0" lang="en-US" sz="2800" spc="-1" strike="noStrike">
              <a:solidFill>
                <a:srgbClr val="5f975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romis possibles :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rtitionner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diminuer la granulari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limiter nombre d’écrivai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25D-7995-4978-BBB2-11E1F7C62D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8080"/>
                </a:solidFill>
                <a:latin typeface="Arial"/>
              </a:rPr>
              <a:t>Perspective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Importance grandissante du partag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Lecture et écritu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merce électroniqu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Pertinence des techniqu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Mandataires spécifiques encapsulant l’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ava, .Net : ramasse-miettes répart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Réplication: centres Web, BD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Travail déconnecté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D93-1541-4B98-8A24-27807F3A24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9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1FD-B158-440C-BDDB-091B1AE7C5B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Publications</a:t>
            </a:r>
            <a:endParaRPr b="0" lang="en-US" sz="4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35956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urveys, en cours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200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Springer 2000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LDI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ECOOP 1998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WMM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marL="17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WDAG 1995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385128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Livre IEEE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OSDI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94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PODC 1992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RDS 1991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Computing Systems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SOSP 1989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a5554"/>
                </a:solidFill>
                <a:latin typeface="Arial"/>
              </a:rPr>
              <a:t>ICDCS 1986</a:t>
            </a: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D77-6766-45DA-A4BD-E9A14A620182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808080"/>
                </a:solidFill>
                <a:latin typeface="Arial"/>
              </a:rPr>
              <a:t>Le partage de l’information à grande échelle</a:t>
            </a:r>
            <a:endParaRPr b="0" lang="en-US" sz="4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8360" y="1988640"/>
            <a:ext cx="73440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mplexité des systèmes répartis : parallélisme, pannes, événement, lat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Objets: sémantique non prédéfini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: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outils commun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aspects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compromi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raiter les problèmes de fond, impact sur le long term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1A17-0BA3-41D3-BC25-9447BEEB5C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8000" y="279000"/>
            <a:ext cx="760428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Objets Fragmentés</a:t>
            </a:r>
            <a:br>
              <a:rPr sz="4200"/>
            </a:b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81-199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41600" y="1761840"/>
            <a:ext cx="48020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tructuration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Contrôle de la transparenc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Mandatair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grammab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spécifique au client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état du protocole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ystème SO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Voir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roxy Web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Jini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fa19f"/>
                </a:solidFill>
                <a:latin typeface="Arial"/>
              </a:rPr>
              <a:t>pages Web dynamiques</a:t>
            </a:r>
            <a:endParaRPr b="0" lang="en-US" sz="2800" spc="-1" strike="noStrike">
              <a:solidFill>
                <a:srgbClr val="4fa19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0480" y="2259000"/>
            <a:ext cx="1398600" cy="157320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41560" y="4846680"/>
            <a:ext cx="1192320" cy="1298520"/>
          </a:xfrm>
          <a:prstGeom prst="rect">
            <a:avLst/>
          </a:prstGeom>
          <a:noFill/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9880" y="2433600"/>
            <a:ext cx="511200" cy="498600"/>
          </a:xfrm>
          <a:prstGeom prst="ellipse">
            <a:avLst/>
          </a:prstGeom>
          <a:solidFill>
            <a:srgbClr val="4fa19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4640" y="5254560"/>
            <a:ext cx="511200" cy="49860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71680" y="3187800"/>
            <a:ext cx="511200" cy="498240"/>
          </a:xfrm>
          <a:prstGeom prst="ellipse">
            <a:avLst/>
          </a:prstGeom>
          <a:solidFill>
            <a:srgbClr val="5f9759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5"/>
            <a:endCxn id="118" idx="1"/>
          </p:cNvCxnSpPr>
          <p:nvPr/>
        </p:nvCxnSpPr>
        <p:spPr>
          <a:xfrm>
            <a:off x="1276200" y="2859120"/>
            <a:ext cx="270720" cy="4024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8" idx="5"/>
            <a:endCxn id="117" idx="1"/>
          </p:cNvCxnSpPr>
          <p:nvPr/>
        </p:nvCxnSpPr>
        <p:spPr>
          <a:xfrm>
            <a:off x="1907640" y="3613320"/>
            <a:ext cx="1451880" cy="1715040"/>
          </a:xfrm>
          <a:prstGeom prst="straightConnector1">
            <a:avLst/>
          </a:prstGeom>
          <a:ln w="38160">
            <a:solidFill>
              <a:srgbClr val="2a5554"/>
            </a:solidFill>
            <a:prstDash val="dash"/>
            <a:miter/>
            <a:headEnd len="med" type="oval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 rot="2909400">
            <a:off x="856440" y="3960000"/>
            <a:ext cx="3643200" cy="1114560"/>
          </a:xfrm>
          <a:prstGeom prst="ellipse">
            <a:avLst/>
          </a:prstGeom>
          <a:gradFill rotWithShape="0">
            <a:gsLst>
              <a:gs pos="0">
                <a:srgbClr val="5f9759">
                  <a:alpha val="32156"/>
                </a:srgbClr>
              </a:gs>
              <a:gs pos="100000">
                <a:srgbClr val="689c62">
                  <a:alpha val="33333"/>
                </a:srgbClr>
              </a:gs>
            </a:gsLst>
            <a:lin ang="2490000"/>
          </a:gra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78E-07EF-4FE0-939C-3F9FDD9B3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35 0.27244 L 3.05556E-006 -3.80204E-006 E">
                                      <p:cBhvr>
                                        <p:cTn id="8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Chaînes de Paires Souche-Scion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0—1999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7560" y="1988640"/>
            <a:ext cx="421956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Automatiser la gestion d’objets en réparti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éférences 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RM locaux + coordination </a:t>
            </a:r>
            <a:r>
              <a:rPr b="0" i="1" lang="fr-FR" sz="2800" spc="-1" strike="noStrike">
                <a:solidFill>
                  <a:srgbClr val="2a5554"/>
                </a:solidFill>
                <a:latin typeface="Arial"/>
              </a:rPr>
              <a:t>asynchron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Simplicité + efficacité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Tolérant les pannes détectab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a5554"/>
                </a:solidFill>
                <a:latin typeface="Arial"/>
              </a:rPr>
              <a:t>Dérivation formelle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057400"/>
            <a:ext cx="1320840" cy="1308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1920" y="4165560"/>
            <a:ext cx="1485720" cy="1320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62240" y="1879560"/>
            <a:ext cx="1371600" cy="1295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67160" y="2044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0680" y="261612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7" idx="5"/>
            <a:endCxn id="128" idx="1"/>
          </p:cNvCxnSpPr>
          <p:nvPr/>
        </p:nvCxnSpPr>
        <p:spPr>
          <a:xfrm>
            <a:off x="3704760" y="2282400"/>
            <a:ext cx="337320" cy="3754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grpSp>
        <p:nvGrpSpPr>
          <p:cNvPr id="130" name=""/>
          <p:cNvGrpSpPr/>
          <p:nvPr/>
        </p:nvGrpSpPr>
        <p:grpSpPr>
          <a:xfrm>
            <a:off x="3230280" y="2769840"/>
            <a:ext cx="486000" cy="340200"/>
            <a:chOff x="3230280" y="2769840"/>
            <a:chExt cx="486000" cy="340200"/>
          </a:xfrm>
        </p:grpSpPr>
        <p:sp>
          <p:nvSpPr>
            <p:cNvPr id="131" name=""/>
            <p:cNvSpPr/>
            <p:nvPr/>
          </p:nvSpPr>
          <p:spPr>
            <a:xfrm>
              <a:off x="3230640" y="2770200"/>
              <a:ext cx="48564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1" idx="0"/>
              <a:endCxn id="131" idx="1"/>
            </p:cNvCxnSpPr>
            <p:nvPr/>
          </p:nvCxnSpPr>
          <p:spPr>
            <a:xfrm>
              <a:off x="3230280" y="2769840"/>
              <a:ext cx="48636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cxnSp>
        <p:nvCxnSpPr>
          <p:cNvPr id="133" name=""/>
          <p:cNvCxnSpPr>
            <a:stCxn id="131" idx="2"/>
            <a:endCxn id="134" idx="0"/>
          </p:cNvCxnSpPr>
          <p:nvPr/>
        </p:nvCxnSpPr>
        <p:spPr>
          <a:xfrm flipH="1" flipV="1">
            <a:off x="3241440" y="2648880"/>
            <a:ext cx="235440" cy="32292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370160" y="2305080"/>
            <a:ext cx="409320" cy="371520"/>
          </a:xfrm>
          <a:custGeom>
            <a:avLst/>
            <a:gdLst>
              <a:gd name="textAreaLeft" fmla="*/ 0 w 409320"/>
              <a:gd name="textAreaRight" fmla="*/ 409680 w 4093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4" idx="1"/>
            <a:endCxn id="128" idx="2"/>
          </p:cNvCxnSpPr>
          <p:nvPr/>
        </p:nvCxnSpPr>
        <p:spPr>
          <a:xfrm>
            <a:off x="3105000" y="2464920"/>
            <a:ext cx="896400" cy="29124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881440" y="2278080"/>
            <a:ext cx="365040" cy="37296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0"/>
            <a:endCxn id="134" idx="2"/>
          </p:cNvCxnSpPr>
          <p:nvPr/>
        </p:nvCxnSpPr>
        <p:spPr>
          <a:xfrm flipV="1">
            <a:off x="1779480" y="2464560"/>
            <a:ext cx="1326240" cy="2628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28680" y="219564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6"/>
            <a:endCxn id="135" idx="1"/>
          </p:cNvCxnSpPr>
          <p:nvPr/>
        </p:nvCxnSpPr>
        <p:spPr>
          <a:xfrm>
            <a:off x="607680" y="2335320"/>
            <a:ext cx="762840" cy="15588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endCxn id="134" idx="3"/>
          </p:cNvCxnSpPr>
          <p:nvPr/>
        </p:nvCxnSpPr>
        <p:spPr>
          <a:xfrm flipV="1">
            <a:off x="798120" y="2464920"/>
            <a:ext cx="2307240" cy="5184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5" idx="2"/>
          </p:cNvCxnSpPr>
          <p:nvPr/>
        </p:nvCxnSpPr>
        <p:spPr>
          <a:xfrm flipV="1">
            <a:off x="1234800" y="2490120"/>
            <a:ext cx="135720" cy="91836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 rot="16200000">
            <a:off x="1051560" y="3261240"/>
            <a:ext cx="365040" cy="373320"/>
          </a:xfrm>
          <a:custGeom>
            <a:avLst/>
            <a:gdLst/>
            <a:ahLst/>
            <a:rect l="l" t="t" r="r" b="b"/>
            <a:pathLst>
              <a:path w="230" h="235">
                <a:moveTo>
                  <a:pt x="2" y="0"/>
                </a:moveTo>
                <a:lnTo>
                  <a:pt x="141" y="118"/>
                </a:lnTo>
                <a:lnTo>
                  <a:pt x="0" y="235"/>
                </a:lnTo>
                <a:lnTo>
                  <a:pt x="227" y="234"/>
                </a:lnTo>
                <a:lnTo>
                  <a:pt x="230" y="1"/>
                </a:lnTo>
                <a:lnTo>
                  <a:pt x="2" y="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2a55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1"/>
          </p:cNvCxnSpPr>
          <p:nvPr/>
        </p:nvCxnSpPr>
        <p:spPr>
          <a:xfrm>
            <a:off x="452520" y="3169800"/>
            <a:ext cx="597600" cy="975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45" name=""/>
          <p:cNvGrpSpPr/>
          <p:nvPr/>
        </p:nvGrpSpPr>
        <p:grpSpPr>
          <a:xfrm>
            <a:off x="206280" y="2968200"/>
            <a:ext cx="486360" cy="340200"/>
            <a:chOff x="206280" y="2968200"/>
            <a:chExt cx="486360" cy="340200"/>
          </a:xfrm>
        </p:grpSpPr>
        <p:sp>
          <p:nvSpPr>
            <p:cNvPr id="144" name=""/>
            <p:cNvSpPr/>
            <p:nvPr/>
          </p:nvSpPr>
          <p:spPr>
            <a:xfrm>
              <a:off x="206280" y="2968560"/>
              <a:ext cx="486000" cy="339840"/>
            </a:xfrm>
            <a:custGeom>
              <a:avLst/>
              <a:gdLst/>
              <a:ahLst/>
              <a:rect l="l" t="t" r="r" b="b"/>
              <a:pathLst>
                <a:path w="680" h="472">
                  <a:moveTo>
                    <a:pt x="0" y="0"/>
                  </a:moveTo>
                  <a:lnTo>
                    <a:pt x="0" y="472"/>
                  </a:lnTo>
                  <a:lnTo>
                    <a:pt x="680" y="472"/>
                  </a:lnTo>
                  <a:lnTo>
                    <a:pt x="680" y="0"/>
                  </a:lnTo>
                  <a:lnTo>
                    <a:pt x="344" y="2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cap="sq" w="12600">
              <a:solidFill>
                <a:srgbClr val="2a55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a5554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4" idx="0"/>
              <a:endCxn id="144" idx="1"/>
            </p:cNvCxnSpPr>
            <p:nvPr/>
          </p:nvCxnSpPr>
          <p:spPr>
            <a:xfrm>
              <a:off x="206280" y="2968200"/>
              <a:ext cx="486720" cy="1080"/>
            </a:xfrm>
            <a:prstGeom prst="straightConnector1">
              <a:avLst/>
            </a:prstGeom>
            <a:ln cap="sq" w="12600">
              <a:solidFill>
                <a:srgbClr val="2a5554"/>
              </a:solidFill>
              <a:miter/>
            </a:ln>
          </p:spPr>
        </p:cxnSp>
      </p:grpSp>
      <p:sp>
        <p:nvSpPr>
          <p:cNvPr id="147" name=""/>
          <p:cNvSpPr/>
          <p:nvPr/>
        </p:nvSpPr>
        <p:spPr>
          <a:xfrm rot="16200000">
            <a:off x="2201760" y="3943440"/>
            <a:ext cx="409680" cy="371520"/>
          </a:xfrm>
          <a:custGeom>
            <a:avLst/>
            <a:gdLst>
              <a:gd name="textAreaLeft" fmla="*/ 0 w 409680"/>
              <a:gd name="textAreaRight" fmla="*/ 410040 w 4096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824" y="0"/>
                </a:lnTo>
                <a:lnTo>
                  <a:pt x="21600" y="10800"/>
                </a:lnTo>
                <a:lnTo>
                  <a:pt x="982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54320" y="5068800"/>
            <a:ext cx="279360" cy="2793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2a55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a5554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2a5554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0"/>
            <a:endCxn id="142" idx="2"/>
          </p:cNvCxnSpPr>
          <p:nvPr/>
        </p:nvCxnSpPr>
        <p:spPr>
          <a:xfrm flipH="1" flipV="1">
            <a:off x="1420560" y="3631680"/>
            <a:ext cx="986400" cy="293040"/>
          </a:xfrm>
          <a:prstGeom prst="straightConnector1">
            <a:avLst/>
          </a:prstGeom>
          <a:ln cap="sq" w="2844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7" idx="1"/>
            <a:endCxn id="134" idx="4"/>
          </p:cNvCxnSpPr>
          <p:nvPr/>
        </p:nvCxnSpPr>
        <p:spPr>
          <a:xfrm flipV="1">
            <a:off x="2406240" y="2650320"/>
            <a:ext cx="475560" cy="1274040"/>
          </a:xfrm>
          <a:prstGeom prst="straightConnector1">
            <a:avLst/>
          </a:prstGeom>
          <a:ln w="28440">
            <a:solidFill>
              <a:srgbClr val="2a5554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8" idx="0"/>
            <a:endCxn id="147" idx="2"/>
          </p:cNvCxnSpPr>
          <p:nvPr/>
        </p:nvCxnSpPr>
        <p:spPr>
          <a:xfrm flipV="1">
            <a:off x="2393640" y="4333680"/>
            <a:ext cx="13320" cy="735120"/>
          </a:xfrm>
          <a:prstGeom prst="straightConnector1">
            <a:avLst/>
          </a:prstGeom>
          <a:ln cap="sq" w="12600">
            <a:solidFill>
              <a:srgbClr val="2a5554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endCxn id="142" idx="3"/>
          </p:cNvCxnSpPr>
          <p:nvPr/>
        </p:nvCxnSpPr>
        <p:spPr>
          <a:xfrm flipH="1" flipV="1">
            <a:off x="1234800" y="3408120"/>
            <a:ext cx="527760" cy="166104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7" idx="3"/>
            <a:endCxn id="134" idx="5"/>
          </p:cNvCxnSpPr>
          <p:nvPr/>
        </p:nvCxnSpPr>
        <p:spPr>
          <a:xfrm flipH="1" flipV="1" rot="5400000">
            <a:off x="2007000" y="3049560"/>
            <a:ext cx="1274040" cy="475560"/>
          </a:xfrm>
          <a:prstGeom prst="curvedConnector5">
            <a:avLst>
              <a:gd name="adj1" fmla="val 48728"/>
              <a:gd name="adj2" fmla="val 50000"/>
              <a:gd name="adj3" fmla="val 48728"/>
            </a:avLst>
          </a:prstGeom>
          <a:ln cap="sq" w="28440">
            <a:solidFill>
              <a:srgbClr val="5f975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495-3CC0-416C-98D5-E599CCE819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7697E-006 L -0.29392 0.00208 E">
                                      <p:cBhvr>
                                        <p:cTn id="3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3876E-007 L 0.14323 0.28307 E">
                                      <p:cBhvr>
                                        <p:cTn id="77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35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8360" y="279000"/>
            <a:ext cx="73440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808080"/>
                </a:solidFill>
                <a:latin typeface="Arial"/>
              </a:rPr>
              <a:t>RM asynchrone en mémoire répliquée </a:t>
            </a:r>
            <a:r>
              <a:rPr b="0" i="1" lang="fr-FR" sz="3000" spc="-1" strike="noStrike">
                <a:solidFill>
                  <a:srgbClr val="808080"/>
                </a:solidFill>
                <a:latin typeface="Arial"/>
              </a:rPr>
              <a:t>1993—2000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7360" y="1988640"/>
            <a:ext cx="434664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calability </a:t>
            </a:r>
            <a:r>
              <a:rPr b="0" lang="en-GB" sz="2800" spc="-1" strike="noStrike">
                <a:solidFill>
                  <a:srgbClr val="2a5554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 asynch.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Local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Distributed GC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Sufficient safety rule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Union rul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lean propagation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omprehensive scanning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reate before delete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lvl="1" marL="442800" indent="-263520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buClr>
                <a:srgbClr val="4fa19f"/>
              </a:buClr>
              <a:buSzPct val="75000"/>
              <a:buFont typeface="Wingdings" charset="2"/>
              <a:buChar char=""/>
              <a:tabLst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fa19f"/>
                </a:solidFill>
                <a:latin typeface="Arial"/>
              </a:rPr>
              <a:t>Causal delivery</a:t>
            </a:r>
            <a:endParaRPr b="0" lang="en-US" sz="2400" spc="-1" strike="noStrike">
              <a:solidFill>
                <a:srgbClr val="4fa19f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a5554"/>
                </a:solidFill>
                <a:latin typeface="Arial"/>
              </a:rPr>
              <a:t>PerDiS</a:t>
            </a:r>
            <a:endParaRPr b="0" lang="en-US" sz="2800" spc="-1" strike="noStrike">
              <a:solidFill>
                <a:srgbClr val="2a5554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86000" y="3529080"/>
            <a:ext cx="139680" cy="17222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6840" y="3519360"/>
            <a:ext cx="914400" cy="685800"/>
          </a:xfrm>
          <a:prstGeom prst="rect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08520" y="3938760"/>
            <a:ext cx="21564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21120" y="3621240"/>
            <a:ext cx="216000" cy="21564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3160" y="3735360"/>
            <a:ext cx="216000" cy="216000"/>
          </a:xfrm>
          <a:prstGeom prst="ellipse">
            <a:avLst/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641760" y="3754440"/>
            <a:ext cx="266760" cy="6336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41760" y="3900600"/>
            <a:ext cx="279360" cy="13968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5040" y="3875040"/>
            <a:ext cx="419040" cy="1015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071600" y="4194000"/>
            <a:ext cx="165240" cy="171792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44520" y="3532320"/>
            <a:ext cx="592200" cy="176364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9480" y="5227560"/>
            <a:ext cx="90180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19360" y="5646600"/>
            <a:ext cx="2048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9840" y="5342040"/>
            <a:ext cx="2016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4400" y="5494320"/>
            <a:ext cx="291960" cy="1396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3204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03360" y="5646600"/>
            <a:ext cx="20304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1596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0800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23660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3660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79880" y="5227560"/>
            <a:ext cx="901440" cy="673200"/>
          </a:xfrm>
          <a:prstGeom prst="rect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1200" y="564660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63800" y="5329080"/>
            <a:ext cx="203400" cy="20340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5840" y="5443560"/>
            <a:ext cx="203400" cy="203040"/>
          </a:xfrm>
          <a:prstGeom prst="ellipse">
            <a:avLst/>
          </a:prstGeom>
          <a:noFill/>
          <a:ln w="25560">
            <a:solidFill>
              <a:srgbClr val="b8b8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84440" y="5455800"/>
            <a:ext cx="254160" cy="63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84440" y="5608800"/>
            <a:ext cx="266760" cy="1267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811600" y="5583240"/>
            <a:ext cx="419040" cy="8892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2920" y="4871880"/>
            <a:ext cx="0" cy="55908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5280" y="5316480"/>
            <a:ext cx="330120" cy="2034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1731960" y="5773320"/>
            <a:ext cx="876240" cy="1260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44560" y="5430960"/>
            <a:ext cx="343080" cy="0"/>
          </a:xfrm>
          <a:prstGeom prst="line">
            <a:avLst/>
          </a:prstGeom>
          <a:ln w="25560">
            <a:solidFill>
              <a:srgbClr val="b8b8b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9520" y="3282840"/>
            <a:ext cx="2343240" cy="1074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67040" y="3281400"/>
            <a:ext cx="1512720" cy="1063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fa1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36760" y="3532320"/>
            <a:ext cx="9126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66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364644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39880" y="3798720"/>
            <a:ext cx="304920" cy="152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7520" y="3532320"/>
            <a:ext cx="914400" cy="685800"/>
          </a:xfrm>
          <a:prstGeom prst="rect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88840" y="3951360"/>
            <a:ext cx="2160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1800" y="3633840"/>
            <a:ext cx="21564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3840" y="3747960"/>
            <a:ext cx="214200" cy="216000"/>
          </a:xfrm>
          <a:prstGeom prst="ellipse">
            <a:avLst/>
          </a:prstGeom>
          <a:noFill/>
          <a:ln w="12600">
            <a:solidFill>
              <a:srgbClr val="987a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22440" y="3766680"/>
            <a:ext cx="266400" cy="6372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2440" y="3913200"/>
            <a:ext cx="279360" cy="13968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7520" y="4230720"/>
            <a:ext cx="623880" cy="1692360"/>
          </a:xfrm>
          <a:prstGeom prst="line">
            <a:avLst/>
          </a:prstGeom>
          <a:ln w="12600">
            <a:solidFill>
              <a:srgbClr val="474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760" y="3621240"/>
            <a:ext cx="343080" cy="21564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8200" y="3164040"/>
            <a:ext cx="0" cy="571320"/>
          </a:xfrm>
          <a:prstGeom prst="line">
            <a:avLst/>
          </a:prstGeom>
          <a:ln w="12600">
            <a:solidFill>
              <a:srgbClr val="4fa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123920" y="4084200"/>
            <a:ext cx="876240" cy="1116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30400" y="3741840"/>
            <a:ext cx="355680" cy="0"/>
          </a:xfrm>
          <a:prstGeom prst="line">
            <a:avLst/>
          </a:prstGeom>
          <a:ln w="12600">
            <a:solidFill>
              <a:srgbClr val="987a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73080" y="370188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84160" y="3760920"/>
            <a:ext cx="236520" cy="1918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7880" y="3805200"/>
            <a:ext cx="57240" cy="30816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8600" y="3863880"/>
            <a:ext cx="236520" cy="19224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a555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stion répartie d'obje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367-8336-4DC9-B7E0-5678913A7C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outenance HDR -- 2002-12-12</a:t>
            </a: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5:05:42Z</dcterms:created>
  <dc:creator>shapiro</dc:creator>
  <dc:description/>
  <dc:language>en-US</dc:language>
  <cp:lastModifiedBy>shapiro</cp:lastModifiedBy>
  <dcterms:modified xsi:type="dcterms:W3CDTF">2002-12-12T17:11:28Z</dcterms:modified>
  <cp:revision>99</cp:revision>
  <dc:subject/>
  <dc:title>Replication: optimistic approach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